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0.wmf" ContentType="image/x-wmf"/>
  <Override PartName="/ppt/media/image83.png" ContentType="image/png"/>
  <Override PartName="/ppt/media/image34.jpeg" ContentType="image/jpeg"/>
  <Override PartName="/ppt/media/image58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74.png" ContentType="image/png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38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26.wmf" ContentType="image/x-wmf"/>
  <Override PartName="/ppt/media/image63.wmf" ContentType="image/x-wmf"/>
  <Override PartName="/ppt/media/image27.wmf" ContentType="image/x-wmf"/>
  <Override PartName="/ppt/media/image64.wmf" ContentType="image/x-wmf"/>
  <Override PartName="/ppt/media/image65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66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3.wmf" ContentType="image/x-wmf"/>
  <Override PartName="/ppt/media/image3.png" ContentType="image/png"/>
  <Override PartName="/ppt/media/image72.wmf" ContentType="image/x-wmf"/>
  <Override PartName="/ppt/media/image2.png" ContentType="image/png"/>
  <Override PartName="/ppt/media/image71.wmf" ContentType="image/x-wmf"/>
  <Override PartName="/ppt/media/image29.wmf" ContentType="image/x-wmf"/>
  <Override PartName="/ppt/media/image6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81.wmf" ContentType="image/x-wmf"/>
  <Override PartName="/ppt/media/image16.wmf" ContentType="image/x-wmf"/>
  <Override PartName="/ppt/media/image14.wmf" ContentType="image/x-wmf"/>
  <Override PartName="/ppt/media/image8.wmf" ContentType="image/x-wmf"/>
  <Override PartName="/ppt/media/image80.wmf" ContentType="image/x-wmf"/>
  <Override PartName="/ppt/media/image15.wmf" ContentType="image/x-wmf"/>
  <Override PartName="/ppt/media/image41.jpeg" ContentType="image/jpeg"/>
  <Override PartName="/ppt/media/image23.wmf" ContentType="image/x-wmf"/>
  <Override PartName="/ppt/media/image1.jpeg" ContentType="image/jpeg"/>
  <Override PartName="/ppt/media/image50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sldIdLst>
    <p:sldId id="256" r:id="rId62"/>
    <p:sldId id="257" r:id="rId63"/>
    <p:sldId id="258" r:id="rId64"/>
    <p:sldId id="259" r:id="rId65"/>
    <p:sldId id="260" r:id="rId66"/>
    <p:sldId id="261" r:id="rId67"/>
    <p:sldId id="262" r:id="rId68"/>
    <p:sldId id="263" r:id="rId69"/>
    <p:sldId id="264" r:id="rId70"/>
    <p:sldId id="265" r:id="rId71"/>
    <p:sldId id="266" r:id="rId72"/>
    <p:sldId id="267" r:id="rId73"/>
    <p:sldId id="268" r:id="rId74"/>
    <p:sldId id="269" r:id="rId75"/>
    <p:sldId id="270" r:id="rId76"/>
    <p:sldId id="271" r:id="rId77"/>
    <p:sldId id="272" r:id="rId78"/>
    <p:sldId id="273" r:id="rId79"/>
    <p:sldId id="274" r:id="rId80"/>
    <p:sldId id="275" r:id="rId81"/>
    <p:sldId id="276" r:id="rId82"/>
    <p:sldId id="277" r:id="rId83"/>
    <p:sldId id="278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" Target="slides/slide1.xml"/><Relationship Id="rId63" Type="http://schemas.openxmlformats.org/officeDocument/2006/relationships/slide" Target="slides/slide2.xml"/><Relationship Id="rId64" Type="http://schemas.openxmlformats.org/officeDocument/2006/relationships/slide" Target="slides/slide3.xml"/><Relationship Id="rId65" Type="http://schemas.openxmlformats.org/officeDocument/2006/relationships/slide" Target="slides/slide4.xml"/><Relationship Id="rId66" Type="http://schemas.openxmlformats.org/officeDocument/2006/relationships/slide" Target="slides/slide5.xml"/><Relationship Id="rId67" Type="http://schemas.openxmlformats.org/officeDocument/2006/relationships/slide" Target="slides/slide6.xml"/><Relationship Id="rId68" Type="http://schemas.openxmlformats.org/officeDocument/2006/relationships/slide" Target="slides/slide7.xml"/><Relationship Id="rId69" Type="http://schemas.openxmlformats.org/officeDocument/2006/relationships/slide" Target="slides/slide8.xml"/><Relationship Id="rId70" Type="http://schemas.openxmlformats.org/officeDocument/2006/relationships/slide" Target="slides/slide9.xml"/><Relationship Id="rId71" Type="http://schemas.openxmlformats.org/officeDocument/2006/relationships/slide" Target="slides/slide10.xml"/><Relationship Id="rId72" Type="http://schemas.openxmlformats.org/officeDocument/2006/relationships/slide" Target="slides/slide11.xml"/><Relationship Id="rId73" Type="http://schemas.openxmlformats.org/officeDocument/2006/relationships/slide" Target="slides/slide12.xml"/><Relationship Id="rId74" Type="http://schemas.openxmlformats.org/officeDocument/2006/relationships/slide" Target="slides/slide13.xml"/><Relationship Id="rId75" Type="http://schemas.openxmlformats.org/officeDocument/2006/relationships/slide" Target="slides/slide14.xml"/><Relationship Id="rId76" Type="http://schemas.openxmlformats.org/officeDocument/2006/relationships/slide" Target="slides/slide15.xml"/><Relationship Id="rId77" Type="http://schemas.openxmlformats.org/officeDocument/2006/relationships/slide" Target="slides/slide16.xml"/><Relationship Id="rId78" Type="http://schemas.openxmlformats.org/officeDocument/2006/relationships/slide" Target="slides/slide17.xml"/><Relationship Id="rId79" Type="http://schemas.openxmlformats.org/officeDocument/2006/relationships/slide" Target="slides/slide18.xml"/><Relationship Id="rId80" Type="http://schemas.openxmlformats.org/officeDocument/2006/relationships/slide" Target="slides/slide19.xml"/><Relationship Id="rId81" Type="http://schemas.openxmlformats.org/officeDocument/2006/relationships/slide" Target="slides/slide20.xml"/><Relationship Id="rId82" Type="http://schemas.openxmlformats.org/officeDocument/2006/relationships/slide" Target="slides/slide21.xml"/><Relationship Id="rId83" Type="http://schemas.openxmlformats.org/officeDocument/2006/relationships/slide" Target="slides/slide22.xml"/><Relationship Id="rId84" Type="http://schemas.openxmlformats.org/officeDocument/2006/relationships/slide" Target="slides/slide23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9F49-E959-4BF8-A623-513FBAF2A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422B-6C98-4CF5-85F0-97D747E797B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1357DB-EDAD-4357-9570-E53B0797006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030ACF-6C5D-4C46-9B79-ADFB3A53029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736D2F-9AEB-4144-BA4E-6F83F58823B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5DB325-6285-4963-A0B5-01124491D68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04B626-A2E8-4945-9D0C-196C446645B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427182-B15F-4C2D-BE62-5E2C3CCB799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7B6947-B82E-4770-86F9-C76539A050E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7B08C9-951C-4D09-A6AD-C4E3E843DDC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8203DB-7D2A-4F00-8917-F7E3C415F8B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5ED8FF-5C9D-4E75-8E4F-1FC67F13C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3E81-96D8-4C7D-BAE9-821F34A1486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71A368-D1B1-49B0-B0DC-8A9604D8E87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78DF25-17ED-4A59-BEDF-1C4B3F8231E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F9410F-52EE-41C5-A0E0-37DE91A42EE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09E335-0174-4135-99A3-90C8E05E413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1D818B-1929-4632-BF6A-238CD13202B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F96E09-B380-4737-BD7F-03DD6E0C8B2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9DBE73-9DBD-4709-B52A-C09E89A2A7E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B34695-22C5-4CC9-8142-125268C1D3E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E06EC0-CF9A-49AF-B237-2722BBD95B5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AFD65D-6C7A-4631-813B-7B4CFB62D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6840-9336-4387-A6D9-DEB11BE839E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D3702C-33EF-4798-9730-A0DBB11B49C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9F12D-C833-4179-BF62-A7733AC34AF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7EF45-E316-4228-B8AD-EFCDE2C3BC5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98A32-8608-4AF4-901A-23666F9BBA8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A9268-6C21-43B3-A4F8-21931CB93EC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00D2C-1312-4A4A-A6D5-1E7E62D432C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3CF8D-3BEB-48F9-B752-59574C60A40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028AC-8857-4A2D-AF9E-032B58A6B03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4DE14-51BF-41FA-BC6B-9E0E1CC48FB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0CC2E-2178-4E95-89A1-2DD2AD42CB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3DA3A-43D2-4633-8EFE-8180103A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AC6BB-DF6F-45F9-BEB3-435B3038988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3527A-3EDE-4A1B-8A93-C52E60EBB9F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7766B-07D5-412F-8A35-334F1D78D8D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CC5F5D-8B9A-429C-8CA3-777BE3A86A0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F5B41A-D805-4003-95A0-D7E9F3B8BC3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B44767-8298-4BC5-BCD9-907EB5A6FC3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5A8744-8993-4BC3-8285-CCDE99A46A1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67C690-9BB7-4924-92D7-286CC4CCA69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AD5283-D524-42F6-AF0E-BC5195CE902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D1D6CF-D3D5-48AE-9795-F9A784B65E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D1FDE-90EE-4698-BA07-6C59415A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370306-4A61-46A7-A854-673D9E4BC21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67FD45-E6C6-4890-85DB-1AB87D2485A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5E8706-C0A6-4999-B7ED-15E368CEB37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0D2FF6-B577-4C71-968A-8E38A6181C8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8E07B2-DD2C-4F47-AF0F-A99EFB30306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422D06-8C9A-42AE-B9B9-89A6C92AE69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D3AA21-F83F-4731-9195-E1FB5E9D233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D01ADE-B8C6-4033-AF11-C0445A36B56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3CC180-0E34-4818-AC07-EE43ECED6E5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8CBC45-24EA-47E7-AD3A-1A3A7452F0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B58CB-4671-4815-BDE9-11470CDD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1A1DED-63C9-448A-8969-99D6B9156A8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D078F8-D059-4C72-96B1-AB101C73931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004892-CB3F-47B8-A470-678AA85A47F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71FFC9-E02B-4379-A19D-4FFCB4B4F2B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663EC8-481D-4EA4-9269-C58D8516053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7FA8CE-0D5A-459D-AFBB-39ED25B2FF6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104348-F90C-4627-8E44-F972F108F1F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31FE8-1E70-4E3A-866B-3EFCCD3FBA6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CBBD0-D5BE-4C8C-958A-9D0E8A4F12A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94A5D-2479-4CF4-909A-CAE85B9CEC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26D08-56C1-407C-BC9C-D3E4710F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FC2EC-8D22-4365-9859-3349B90B363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B2261-D589-4A0F-90C4-7379D6F102B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1C155-ABB7-48EC-A9FB-411713FEF1A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09F2D-39F4-47CE-AE10-61A74FFA651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B8F50-74BB-4130-841C-28289105B4B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51B67-041B-49CB-A7EC-5C9C513A209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C2A2F-41CC-4B9F-AFFD-A2E46778645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83E7F-FBEC-4EBC-A594-C3BF48DD208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F8656-AD4B-4C6F-93E2-E9BB7F34FA6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41057C-EDC6-43AB-A902-894DDC3065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5F90E-621F-4B8E-8BB8-F5088E1E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6E2249-24FB-489B-AFF3-69CA82DBA4D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02461A-3FB1-4785-B675-C2DBA81700E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22096D-BFD1-42C0-9380-CB25A22F93F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01C039-9D9C-48AF-A61F-C318E978778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88D42B-D777-44B0-88E1-A1BACF19492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9FE843-D0EF-40A4-860F-6D057D1658C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F978AB-9123-40D7-AF4F-5A3C7D61E26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4B98A8-4216-4893-93BF-F3AF9A67EB0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F55E11-AC9D-4069-91FA-313061991A4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3DC986-9133-4E4E-85A9-DFF4A813D9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692BA-0186-4FEB-BDE1-82D470D6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B35CA1-1F63-46D3-BBEF-AFFCF99E33B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8B84C5-2A2C-4A1C-B398-E72C261ACB2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5093C4-A2A8-4745-82B6-4B62FB2ECA4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6BB6D2-6396-4BF9-8EF9-44EE7EEC4F4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71F100-4875-4081-98D1-8A0A7695487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6062F0-7067-4F76-877D-D04133600BD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D5AD93-801F-42F3-B7F3-12A7EB1820A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5BECA3-9F04-431A-BC3A-C190CCBB847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0AA460-D537-4ADF-A43A-AC085B58755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5E84EF-46B2-4746-A426-CF357744BC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617AB-A577-45C5-9E04-0481F51D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14E411-820E-47FC-B95B-1516F2D9A6A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7919D5-A00E-4A9F-8A94-C2CD440B1ED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2607F7-28D9-4B51-B814-A232F47258C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EDDBDE-22C1-4A1D-A52E-1DE12996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A06134-4BC0-46A3-B51F-CD9916A9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65737B-5C2F-4AF3-BA7D-C814D6B3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FDB94A-AA89-4A64-8126-38F14F6B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3B28DE-90B5-4629-88A5-E6995942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6DAA81-B913-449F-8D0F-83BBFC76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DA22E5-6E4A-4909-8BE7-7E73E402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BE92-F920-4281-8B31-7863794BF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FECBA-810D-4D32-88BC-E6F26CBA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C2C68C-CD28-4691-AE0C-82EFEE5E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CEE6B5-F5E3-440C-9CCC-D5618B96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8D1BEE-3FC3-4A92-B3BF-B99B35AB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78F742-6CF7-4C02-9038-AB492B9E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21FA73-E506-449A-859B-506CEBE7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E54185-34A2-410C-BC24-949D2868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2C5798-2092-45B8-B9C1-AD949DE0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FBA2DE-53AA-459B-87EB-C37ED5C7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77AED9-9811-46F7-BA18-352B1AAD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DD80E2-EA33-4153-9B24-B84A4D97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DCF69-E698-4645-83E2-4DFD3061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FDA3FD-25E6-4BED-844B-ADDF0D36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DB94E3-33A5-4474-AB3E-3E132C2A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FAB2A2-75D3-484F-8D90-19DD196F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D684C0-F1B4-4B88-BDDC-51568238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8910C8-1D5C-41CF-A68B-B6C4D445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2D2462-BB92-4E6C-9D27-96ABF425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015582-685D-4542-9EF2-8616C177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972D31-8C97-4531-A7C8-B0F9B326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BFA12F-2637-4C63-A1FE-C5A2051F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30EE13-80FD-4342-B3D4-0D8501BE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0F967-E0A4-4E53-B3AD-A11E7DE5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F34287-B10C-47DB-A5E8-470823EE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3CB6CA-34EF-47EF-B04F-FF769A74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503A4E-1CF3-4293-9962-1BFC71E4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317788-088C-4BFF-9815-F7EFB09C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DC9B69-0478-4324-A6E6-EE79A17B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7C364B-C71A-43DC-81E7-57AA2721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370BE7-1D3B-401F-B509-98EB11F3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63F8C4-32A5-4751-8258-C2E14CD8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3AA12B-9243-461B-BFE0-CF2B5AB9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72E6D7-1A62-4A6B-99B1-4D48006E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59EE5-941C-4EF4-8CF2-DF3AA487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F1EAE0-8FFE-4CF1-97DB-87A5B74F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5BDD83-4845-47E9-964E-C844B97D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EABC77-EA38-4345-BFE8-7B72E272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B14DAB-5C84-4543-BFCB-E50288E7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F52507-E5CF-4101-92A5-CF45A878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EF5894-6CA8-42DC-B299-CB29F8C7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9F18BF-576C-48C3-A3AC-66132546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1F2C12-0AAF-4D12-B023-B54332CC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E8FD6F-F775-4EA5-AB8B-6ED462EC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0CEB58-89A4-4CE9-9875-8722D443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22F8B-D68F-41F0-9F89-551B62BA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6A8E0F-BEFE-4F35-A8BE-8C519D44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6A30D4-C922-43A3-837C-FADBD9C6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F42617-61AA-473C-B0CC-829CCFF1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BC110C-05AB-499C-AE48-45ED03FE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29AB6A-A325-4689-9AD0-5B9744DE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369F9C-7C12-44A0-93E2-0C1269C4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24BAEA-4FD6-45C3-909F-52BA9ABA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482608-D34C-4810-8415-4F7EF330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92E36C-7E8F-45FD-BD3D-5C9D35B7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63259E-6F53-4181-B89C-F3112308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419BD5-137D-48F8-8A2B-0CADC849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8DB28D-F62E-4EAC-BB5D-A4110E33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2F6419-2549-449E-A15F-50884B46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28C232-C681-4C3C-B3AC-79874D43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5A616E-1BBC-48D7-9712-537A34BC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79B9CD-FC37-4BB7-B9A2-8AFA1F85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E63577C-44BA-4B36-A88A-5B4BB289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9A7323-15A2-4AEF-9CAC-F2E6CA2A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AD97B7-57DC-4367-8318-50D57FFA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A44624E-14D9-45A8-A56A-AF4D99D6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52ED68-86A7-41C2-BE0C-8A250BFB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3E7EDA-EC11-40C4-9A0B-40EACF3D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8319A82-07D4-48F0-9411-F2429FFC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8CB6B17-CFE1-432F-9BB5-8777EF11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46C224-E03E-4747-A330-DD5540D7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D00D674-BE82-480A-B96C-A684F380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E9B7D38-74C8-4AC9-A9C4-5634EE8F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B283D39-6254-401A-8526-255A791E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8D0CBC-C6B0-40EB-9388-C6BA12AF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8546C7-9115-4011-9C0C-60215B58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CE2E7D-B686-4949-AC6D-E6EC1DC6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D673015-57BB-4623-A6EE-32ACF498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0D8F0C-245F-48D8-BB00-A508CE36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A4294D7-4B67-4715-814A-090F2394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88684F3-2457-44FA-A35A-D5B77B58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C07415C-3807-4CFA-967E-D83841F3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94DB1E-B44D-4845-AC8F-E45F8DA1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97C2BD-59C0-4DA4-A89D-F9F14331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142DBC-9EA0-46BD-B8A4-6B5A3239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407B32C-6354-4210-AA13-FC6F9537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FCA857A-4C44-411E-A3C8-AF5A66C3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276964F-51A6-4468-A4CB-46F1A604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BFFA9FC-328A-42E5-84B2-6918206E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ECB093-179E-4BD5-9742-3E184C83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9B8D934-5893-402B-B856-8F27C62E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CC890BC-A3FC-42C8-BEC8-C75A46EE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83460E0-E181-409A-BCC5-2D3C11AC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17079B5-0AD7-4CA1-A85B-C30D46E8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FDEEFFC-5704-45A8-B225-2DFCDA28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D8AEA1C-94C2-46FD-B896-86134434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919F62C-06C3-4ED4-BA96-D24923C8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D6A0B92-7E44-4E6E-8258-4FD17634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4E28ACA-E254-4B56-A22C-559CE5DB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A4FADC0-123D-4AFC-B980-02490517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763595-4988-49A8-ABEC-D1192888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86C9752-4ADF-4375-87BF-21CF57D6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2A91ABC-F7E9-438B-B812-0442909C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1CBEE30-66C6-496B-B806-01AFA37D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A674233-A877-4032-8261-D8F3422F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94CA039-239F-433E-BDC4-25C73198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F4CC286-19AB-4D59-8580-D7E52F61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7CFED5C-A21D-4F8D-95DF-D409C50E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6AA15E7-8CDF-48F3-B0F5-5B1AFA24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FC95B96-3433-479D-842E-40C14C17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FCDCE0B-61C9-4B28-B1AD-9720C09C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F3BB-C2CA-4313-8AE0-452A86B4B3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75DCAB-3B8A-4E0B-901F-1480F1DD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E6041A7-29F3-4002-AA4C-A23A078B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32F62B5-3B04-4F3A-A948-A3D03AA4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13C9207-028E-406E-8938-4422912D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3B2E643-3E60-4E6F-8220-6C2E9194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EC02BFA-349D-46DA-B9C0-C90225AE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A02D124-04DF-4A55-8CEB-CA40696E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49DF167-83C8-4B2B-94D2-1B631236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AEAD47C-743E-4458-A350-F2A3D01B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9C65C30-7DC1-4C4F-8F21-88310C50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D510FAC-501A-4CFB-8A7C-84BBC831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7BBF5C-2543-4967-8708-A1396503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2A191CC-8C7D-4096-B229-5FF28F78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8CD218E-6CBD-4E6E-8C0E-19CCBD70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BEFF81B-2637-4E37-BE12-AE108C84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F1A2656-C4A9-4838-9F13-87F23086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5155BD9-5E97-44BA-8012-C2CEBEC4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ED5325C-7D8F-44D3-B977-CDD5584A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10D639F-9C68-4E9F-A2BA-AD9B2218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DEEF370-F8DE-469D-A72C-9C306814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EA16C0C-3D43-492D-A740-DBC820EE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3F6587D-167E-4CDF-83DD-EB1FC777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D52864-F55A-45E7-9099-FED3E5D5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34A94D0-BBE5-46BA-AD76-6769184A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1953FB0-FF21-4478-A8C9-F56F7137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A33C389-16E3-40E9-8D73-D681F04B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2D9DE57-57CA-4684-A410-F3085327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314A29F-FF20-4631-85A4-E9825EB8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229FB22-D380-4D47-8761-6157DC76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0DF1532-02AD-4F3C-BA9D-AA6D8874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BAA9CA3-F78C-495E-B697-C0FA82ED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12B246A-7EFE-45FF-826A-A524EF1E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7F7C86F-2C95-4A88-B274-0C693409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EC7C54-B52F-41FF-B08B-5CEE7370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56F2283-AB46-43BD-ACEA-8145DBD8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522E278-0925-4165-B3A2-B02AF906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85DF8F4-84AA-4756-ADB9-FBBB8852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45C6E16-2D9F-433F-81FE-BDC7668B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0954C91-2B75-487C-88B0-1FC8C170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6579F51-B4A3-4808-97D6-B39348F5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5DC83A6-EA56-400E-9867-47BCDBA2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F287A8B-D252-423B-82CC-865E10F2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2AD6554-10A5-46D8-820F-18625243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F9561D8-B533-4601-A355-2E168144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A5ED2D-2E1F-4F9E-AD64-F705247E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9A0C391-B372-4805-9117-28E0CA14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A6784B9-5B6B-4C31-9152-95A1BC65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F1F7597-B7AD-4FA9-B2D5-0A7D6842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D7396A4-AAEC-4D8A-B06F-DCDC8639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D23771D-DEA5-4C75-AB3D-54A76EB0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16FBAE9-299F-46EA-919C-FFEE431D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BEFEBF1-3F33-41F4-A3AC-59EC5803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5BA7718-C6BE-4120-9379-C9B13D64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7802527-DB00-40E6-A482-C85FB4BD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5723253-881F-4624-9910-F56693AF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B09B87-7DCD-4012-B2E6-BAFF34D1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1D30964-17FC-4C27-BC2B-290A966D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6F56801-9DCB-43A7-A1A7-BE1C05B5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C67CBAA-0B3C-4471-853D-205894F5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9185F1F-846A-4212-9DB2-A34E14CC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19B5D9D-8B57-43E7-B858-39670E21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59DBE7F-00CF-4CE0-A534-526DD6AD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2AC3DE5-8B75-41BD-9207-4F00D9E7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B6C7D8F-A227-4567-8A98-12D3FD03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0C05C08-44C2-4611-81AB-855D2445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66792C4-F7BF-4122-8315-8DC6425D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3A76D5-8194-48DD-BD44-5A4B2568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74D958F-664F-4E82-9E3C-E057B813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F3EE308-97A5-4908-A3A9-0EA29C6B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616C671-4FA0-4F99-8DB4-3EA5274A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D0EB2ED-D341-4058-9D61-2DCE583E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0FA81AF-184D-48E2-9DC5-0FB746AD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AB810F4-BDCC-4057-B857-641AB9B8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5A2A331-C0F7-4DDC-B4D9-2DB6C803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71DF85C-7F61-4AB5-8A76-070CEB65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8AF6A16-AE7F-4D2F-B68D-0221A05A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615EA16-EC16-4D6F-8723-C1C3AABC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50D95-0CCC-4E46-A1EA-E1057ECECC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BEDA8A0-5870-4E29-8E31-02377B6A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2C16C60-8B0F-41B4-AD73-6732AA15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86DF712-A8B3-4ACF-B155-4D7FF80A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125C835-A17D-4755-B4E1-CC7824C6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E525BB7-2DAF-439E-907C-F5EDCF6B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466F8B1-5B7F-4ED4-B897-3F9DC2D4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CC4DFDC-B3F0-45EC-99DE-23B9BBFE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37DA1C2-7E22-4E4B-AAC5-6BC1E164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165A728-9DE3-4D3E-AD6C-64827754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F357B88-F941-4E39-BC0C-36465D21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B32CA-D53E-4F28-8100-6AE10212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FB1D4AD-3123-4416-9D06-9F1DDC7A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35B6073-7A0A-45C8-82EB-875F1125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A1FB041-B9B2-44E0-98A9-139C7C34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360F29B-2B3D-4EAA-994B-71E18CE4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0EEE189-33E8-4CF4-AE85-E1D3CB08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54C20E3-AADB-4B8C-99EC-14F1BF4F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FECDD8C-D895-4700-82E7-BDA9CED9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10D0BD4-4B0C-470E-83F8-DBB66D99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EBF3895-AA9A-44FB-B9E5-A6E5E5E9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716571E-DE1F-4B76-8140-CF6CEE99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E3D12-FD26-4D70-8195-A9173CEC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629CBAF-5F84-4E3B-A9B1-9593B271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9DFBC1F-1AF0-4BE9-A94A-FED4BA48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945DEF8-DA63-47B9-A771-CB2B5723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3BF41E7-8AE0-4E73-AA40-2AF60A2D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5D79975-7B49-43CD-B629-BDA26A0C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4CA0DF2-CB87-4CBD-8047-51B6D22D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0EFA282-B86E-4262-9E8C-690776A4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14E6ECD-0E59-40B8-93A6-8D069471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C9893B5-6044-4FE3-B8FA-B17055B1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7DC149D-A19D-4072-BD2D-CB1E1444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A9E57-5255-4BC8-9AF5-C6A7F6027E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ABF93-8E1E-4627-9BBE-F651307F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B75E897-B4BD-47C3-B4F2-BEA59016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22AFA51-1188-48C9-AF71-711274FF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B0F3CB5-96D7-49AC-BD01-1CD25BA1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71B2C5C-61E7-42DE-AB83-07961CAF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64C594C-5C9E-4CC3-9520-488FB3A9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DC98543-92E1-42A6-92D6-689D2C52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EAD4683-BF47-4595-AB28-AB9024AA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0AF90D9-DC64-4E06-9684-30926069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07790ED-BD9F-404B-BA3F-54879C08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2CA4C06-4D5F-467E-BA3C-9F3DBB5D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6275A-F097-4202-9901-1F5C5065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4201B1C-9E8D-44DC-B36D-DF3A798A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7FE4040-3F6E-4374-AA03-B685A2DF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62CE07C-286C-43A4-A1CB-1E87E53F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6B77E5E-BC2F-4A79-8D9C-D60B5886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D240748-4578-4A99-BD6D-88BFB935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4E24F2A-BEC7-4A25-8128-F934F617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9B927B5-1676-4CBC-B879-A1DC45AA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A62373D-CF02-41C0-874D-1C143BD9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8EC85D9-DCFD-489F-B36F-06EDF233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4921330-5597-4119-94E8-57A0D92F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5E35E-5D0A-4AD2-9092-670B0B83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E89BDD1-B739-4067-BD0C-8C6B8E88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E1B4486-A20B-49E4-96F2-D8ACBA57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424E2A2-AC86-46A4-83A8-5ABC8C9D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C6AE116-EFAF-4956-8FC1-489D4AE8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87BE18D-AD96-4369-8282-692600A2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E6954BE-9651-47E5-AAEA-46ECA09E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01D0BA8-E61A-4EE6-85C3-57609EF8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6B7AA09-6950-4F41-A86B-E2A1836F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358FA0C-D094-411A-BD57-4DDEDDA0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B48EC32-0638-4D00-9055-18394240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FCBC0-8174-47EC-B3BA-D1A1D3BC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4FB34A7-2F83-479D-9DC4-4CCB2DAE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29321FB-5D26-412C-AD75-84468249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CAAA318-119A-4132-A1EB-ACA6AD12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9D929ED-0E03-400A-992B-3883D2A6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C9ABB29-463C-4F8D-99A0-44309392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8FBF16E-ED2B-48DB-8ABC-80D6522B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7049AFE-717A-47FF-BAE8-738C827F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18D4E43-A24C-4D50-AEF3-2125C978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D356FEC-D001-45A8-8BC9-CEA66CF1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64354D6-E406-4991-AF9A-ACAA7D0C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A1B8C-CACF-46CA-A582-C902EE59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B6BDF04-ADDF-43A6-A65A-679B8BA8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1619FAC-DC47-4824-9416-09D3D332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34EE2B6-274B-4036-922A-466F1BCF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9E38D9E-3966-4C9A-9F08-A35A338E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26C6D68-09FC-439E-AC94-3409AA79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2188C37-5827-4660-8AB5-86A68011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C142D46-5211-49B2-B9D9-FC37F0C7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1C8226F-FD89-45A9-B8FE-B3F71435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EDAEE8B-5DBE-4EE4-AF97-72964EB7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EBD8242-DEB8-437E-B73A-28E53FE1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50D26-274C-4AB1-A0D2-78E35E77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E0C3ED5-210D-4C52-B842-08A5AAD4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FB8954F-E324-48D1-A27F-3DC68E43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942942A-B3DC-4D4E-8F4D-52403AD0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A637217-BB68-4B54-A02A-90F0057F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9A218CA-27AA-464F-947C-63A7C6F8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458B9DE-C7C1-4252-98FF-9F918600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0E68B12-7333-4148-896A-8D0B071D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0348615-20EB-4C81-B57F-162F26BD93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8D85C01-5302-4C26-B547-14C8080A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F471F52-1114-43FB-9971-12DD3F06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B6CE8-6F27-4B2C-9B5A-4920ADD6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74190C8-CDA6-42CB-8687-A9D44A93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49B4A03-AFA8-4F9F-B672-5D85E585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065BA5B-AAEB-4156-8E42-53E8BCFE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91EA932-3E07-46DA-B0FA-262505BA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950E30D-4430-4BAB-A333-9CD507CA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F95D50D-0352-42D2-9EF9-5A990056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8DD4767-7084-4673-B704-98947D5D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DA10E06-8425-41BD-AFC8-0E47B2AD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6479F17-A92B-4B88-88BF-BB9C4FE6F1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F3E83A-8579-423E-89B7-56BC83E9A6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7AE59-0C9F-42E4-A322-D16D4341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A230C0-A74B-4EF4-ABF6-2C9AD382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8014D5A-8CBD-4920-ADDF-AEBEEA97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CC5BF6-90AB-4980-87C2-C47AB415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04FBCF-EDC0-48A2-9983-821EC827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8D3E927-ABA0-4695-A1A4-BF7E8548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EBDF8B-65D6-451B-B0F9-A0666AD7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BF3F8C-6406-437E-9D8D-EF645C9D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B6A83B-C718-48E5-AB7D-0554BD35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A9EDAC-DC44-4294-A3F2-3EF3DEB1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EA2128-B245-437F-A26F-2B55134C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B4D18-1DF3-466F-A712-5A0ED8ADFA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42D6C9-1ACA-4DBB-B506-1CD5FEE453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29B5FB5-1EBE-4D4F-9E38-B2094182F2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7F621AE-E573-4A76-9225-B58048C4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66FDE55-9406-4425-88EA-1BEFEA30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D46268B-999C-47BB-9ED0-742F968C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179B4E5-9169-4A8A-8A4D-75A258E8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1A139A3-6339-4C5D-95A9-013699CB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B87692A-298A-4070-9676-EE2D911C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4A0616A-3549-4FF2-BF1B-8EA69D05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CD448F0-2091-442D-B0A8-20304F05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BCEC1-7E70-46F7-A73E-3E748455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3600226-6A42-43A5-92A3-3FAE8BD8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2546754-9A0E-4F5E-A43F-B2199830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C4755E9-6FAA-4977-94FC-657AD062AA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984A815-8974-4088-916D-580E8572C8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F147604-E7A0-4113-AECE-A0962394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120C428-4B51-4CE0-933B-35F9D92A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9753787-517A-4334-A56B-D7F28215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2CECCE5-9E2D-4EC1-9005-903CF4E6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8169B63-3B35-4C07-9883-B1DBF4B5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E63A28F-B3A0-487B-BDD0-8F1B8454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A193-0CF1-46CC-85BF-E7158EC362A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65B18-1428-436B-93D9-796627A0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BDA2C0D-6CB9-4539-BA74-DE399EF9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1CD2AB2-29DF-4588-9BE1-FEC8C8A4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7324151-3533-4E34-8EF8-1D5F12AA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DF8F6E1-1AF8-4315-8AF8-9862F574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7AB5AFB-95B3-4529-B3EE-853B591F11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5947867-53C6-456A-9804-3047C83CE3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2C9A06-E4F6-4E5F-8764-CDE6979F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432133B-FE20-48FD-AA06-6E3663FF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45900C-8923-4A83-A173-24BA3080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1791F9A-BD0F-4ACE-BBC0-EB83EBC3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58938-654C-47BC-8673-F6C98C8D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1EA95E8-64F0-46B6-A115-7645960F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BB9F2E7-6CB7-4D01-B41D-0771BE0C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EE95681-D4EE-4B06-A684-F1B97392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2C9346-783A-483F-99F3-9AF0CA75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3C5D02A-17C1-41E5-B9AC-E67AD9B6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9A6BDE7-2AC6-4BC0-AAB9-7B5B661A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DA98541-BD7D-4B5E-ADEE-1F3B7F49F9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C5B270E-26A5-413C-BAA2-C3D890DA9A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37A03CF-B3D6-4007-8A9B-C75D0E6D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A2DF5B0-6069-4DC2-9286-D89FB9CB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C9173-0B53-42E5-867C-08AC6DD4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A957A2E-F3F2-47EB-BA63-3C22FE77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A812DA3-E2E6-4ABF-B6EC-9634FEED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8BE0D96-C6CC-4506-801F-9AC5B592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DB8EE47-87B1-4608-8EF4-D933037D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9121B09-FF2F-4663-AA77-B1027EAD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DFB637D-565D-4AB4-951C-C5E9F591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9E33000-B246-41DA-A99A-A33C06D5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5A32B24-7E74-4355-BCC9-743F9941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301462D-5088-4FBE-A66D-F8B6BFC1D8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D0B08FB-28B4-408D-AA6E-B3A34E13F4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4F59D-2C02-4AFA-886E-46E5DFF7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7253F6A-D914-4EED-94C4-56CCB148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056DD97-12F2-4141-A581-E2B2B570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1C088CB-73F3-4A47-9B1D-3A372F9C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DEB07FA-FE8B-4060-A64A-3C34E408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B780840-9259-486E-A503-E00059C6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445878F-4FBE-4448-A778-2ABDBF5F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F6A8B77-67D7-4A07-8198-B78C5508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B75555E-44FF-4486-80C6-3F879470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6FE9F44-3DB1-4CD5-9354-D7A46E38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1EC25FE-30D6-45C3-93BA-0BBCCB9E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0B897-401D-43A7-8B1F-6594BD86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E749E73-4170-47BF-9ACD-E9A500E1E2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5BED67E-BE2B-4298-A31B-D4DF71B4AC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1B2F0BE-444F-4A88-9BCE-2F3B12A4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A1E176D-6724-4D7F-B79F-6F08DF73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302BE19-A017-4E62-ACC3-E857BD30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813FC91-34AA-4939-896D-C0732E99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A50DB3E-EA26-49A5-8B9C-35BDAE0E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8F41E79-A0A0-4F82-AE6B-FB86D1A3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86DE328-2B21-438E-976F-FB883828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84D5A90-F68F-4931-931D-5EEB268E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E56D0-4B94-4FB4-AE05-F53887E7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683C6A9-D98D-429C-B89E-A562D2DA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351CCD5-F5BC-43A4-A6BB-DB1A7323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E8965F-D1AE-46DC-BEFF-C1DB9B1A00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4A368ED-21B1-428D-9317-D1CD186D0C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DD22164-D7B6-4DFE-8467-CD1A9101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E2B6473-89ED-409F-A0AE-CA757DEE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259806A-3A99-4EFA-A6AE-BD2F1009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2A4AC34-E785-4DA4-8010-EE317F42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87FC3A9-C878-41FD-A694-113A084F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7618D0F-14B3-43C7-9EE4-94BF17DD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98AD0-E905-448D-8A65-67A6035E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57D9830-506C-4063-A100-DC014362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AAC5B93-8ECA-4936-A2C0-4073298B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71FCA86-405B-4509-AAB2-09BEF20C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ECD39C2-FC31-4BA6-A5E1-653252D4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FC09D10-F693-4BDB-898C-BE7E4024AC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6B52EC7-09CB-47CC-8CE5-795388AE1F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F571120-FA54-47F5-A59D-91BEDAE6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4F31C42-A57C-41B8-A9E3-87924063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C2C183E-9188-4BD1-A0E0-EC2EED11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8CFF5D9-EF2F-4CF4-8D35-30AE4A88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8593F-19CD-43D8-921E-7CC46D50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82924FE-40DD-4367-AF82-0D8BF49B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1110CB0-554F-4A5B-952A-9251F5E2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8A2A1A8-D460-41FA-A929-CD543511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6A90E5E-5B78-413A-ADA8-15FF9105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27DE75A-1F41-42A2-A0D4-CB9672FC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D48FE94-2C41-4974-AD60-EC40F8CB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13BA2D2-381C-47E7-81E0-DD50B56151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8428BF1-B800-4B31-8A1B-A4430B4E6D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1268E97-54BE-49BD-951C-F866D860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AEA8B64-E6DF-45C5-9B48-7A34C0DA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694D3-660D-425D-9B53-A1CB2F53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6CB3D27-4D7B-409D-BDD6-B2FD3B34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C24C8B8-2683-474F-88D5-B5F15A03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0EDFA4E-6CF8-4D5D-90F2-7B6D9FA6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7C25183-7C78-41A7-B9FA-F2A009B3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2F83D77-6E5F-40CC-B3AD-BE55A10B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05B87A7-1733-48C0-AB62-4DAAB162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43B04E6-2BF9-4D8D-991A-BB77CD97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2CD061F-AE65-4EDC-B0D7-F489FA1D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A735CB6-FFFF-4D26-B175-008870A68C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006A5BB-DC63-457B-A1EE-D2CB037F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0CBB5-0DE4-4260-81C9-F9C91808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1E929CE-2C82-4FA7-95BE-2F018C5C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4625C92-9525-478B-B84D-5AA2BB45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4EBC296-9154-46E9-A7D0-FC647F47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D5B04E7-D74E-483D-AC91-B95379CA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EA9F029-4147-4269-AF6C-14E4B0B7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C0E4B81-0F6B-45EA-BA72-A58C1ED6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C2E93F7-CBE6-4FAD-8AB3-149A4955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D676907-7259-4349-9C9E-C08FBBC2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D628FA4-E1C5-40FC-8D39-DA945145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C5C4031-FDC6-433A-8A37-BD934DB9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91F7B-8016-42EF-85FC-1E002F84848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DEE96-FEE0-4FDB-8FE6-C84B95F5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735B35A-8B01-4941-99B6-E3490766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2B931EB-A4D6-4710-98CC-925293BD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61C68BE-CC2C-42ED-B387-7D3330A6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1417649-D5D6-4CD5-A5C4-92F982C3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F5E0E7C-25B9-4289-AAE0-C8F46AEC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556EF6A-9C0C-4C62-8205-B461982F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F084C54-67C2-48EB-9F71-99D3AF9D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D844535-31E4-4859-831A-B1127711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F386CB1-B21D-4DFC-AC7B-32E2C0A3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2577E6F-7F67-467A-BED2-C820CCC9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0EEBA4-2820-4977-ADC7-F5ABCFE23076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63ECA21-07ED-4F5B-9546-0A6E238E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84E303E-1D03-42D4-95DC-7FCA25A1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923D902-2EFF-47D7-882C-0B9359D2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DA84E96-4A1C-44E0-9C75-784A459C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4B7DFE1-D03D-4C8E-8070-5540EBE9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DE4470C-5167-42AF-AF1F-76582C6A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E61D33E-C29F-41EB-891C-B9B2DDE0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2183B13-ABC7-40B4-AE35-60026E0F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FCFE027-A40E-4C3B-82CB-62E5556B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0122F37-0008-4B88-ABBA-6939099C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930A0D-0BAC-4C37-B8F5-50DC1DD01F3F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5E02C3B-14C1-4DF7-A28F-A45F1832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CEACCFB-CA6B-4FB8-A98B-D2DD9C61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D2159E9-F34E-42E5-AD97-4EC2C0FF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AD5A46F-91E9-4BA3-9B53-AC644CFA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CCA7A19-DF94-408D-8154-02EBC5DB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A9F7576-D087-4F62-B15C-90E28589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6AD6CBE-44AD-4CC9-ABFE-4565ADD1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582B772-8DB4-4363-9818-0947947F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86A894B-5D6E-4B7C-B4CD-F3C95977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8448EF2-4BAA-4619-B5B4-E19E1448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6057FB-24ED-4C78-9654-0FD5E0A7D526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61E38BF-FE78-4665-9626-5C2896A3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87ECB4B-F5FA-4352-AE4C-D69287EF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FF71692-2499-4002-8A26-1AD7C91E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5B57576-72A9-4404-81F3-CE717283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3CE6389-598D-4488-9A72-E176ECEC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764F846-82BF-4989-83F9-E2468763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66B03F4-8EA1-4B7A-AB43-85A07BA8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BC2534C-CB28-4600-A402-70A8CDFB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F224F2B-ED25-4F00-A7CD-A08C0C83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7428CA3-E357-401D-A519-B5D1FF4D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070374-F18D-45EE-B047-C5F33AE6C804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02DDE94-33FF-49D8-8472-E2A5B8F3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2ADBF4E-D210-4C7B-B6CC-0117F98F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43456C0-3C85-4033-B27C-DDC4C022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95AAF2B-43FE-4C27-9C27-84BFE412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B71D3EE-2295-4075-998C-C7FC8E6A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DB55204-8390-40EF-AE4D-B75CC6BE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7FC7270-1416-4AFE-91B2-9E71905D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4D421F2-AA6B-40F4-B98A-1AC24D5D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8D49870-2113-430F-9C60-218F11A4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0B718A9-066D-464D-B988-70356E13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A83664-B6CB-4A75-8B1C-563205A3BD15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D6E17F0-F24B-4076-83CF-83BB5FFD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371F6D4-3112-42D0-B52A-CB0FE3A0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9002C10-B4DC-40F3-BA61-8F183B8D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BD342F9-B05E-441C-B80E-7E5CF3FC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EF4AF60-A7C1-402D-BA31-2116C4D2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297F7ED-D314-4BC5-8B7F-A2CC9595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8ED51D5-9B8C-44EB-8502-BA369410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6E8EA6A-BD11-4048-9DEB-8DD95EED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04E8AD4-829C-4E96-AF3E-74C330AA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5130BEA-4146-4675-BE7B-4711A8F4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E55ABA-7A7B-4B25-9D59-427EFB1B1BC2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09F521A-6920-4190-971D-AC8982D7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D2F4DAB-F266-4A70-B5C6-971BB033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41EAA26-A3A6-4DBA-A7C6-EC9FCE31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15D261C-19A4-4DEA-965E-2D4D2F4F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5723337-EFFE-406B-A2A1-D0E064CF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57D7FB2-07CF-478A-B8E3-DCEF4359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B7D9843-2B96-4A1A-B246-D108CE54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167A61D-3A10-4559-A457-3112EA43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AD2AAF8-F741-4C54-90E2-1D3E60CF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49A8DE2-7EB3-4236-AF63-9295C520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09A1A3-F68B-4A7C-AC6E-8B3CD6495434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84F3ACD-F22A-4E05-9230-3C41025E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4F8B989-915B-4BFB-B8E0-8DEE75CE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31AB95B-B8C3-4343-A774-39A08718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5C44035-3738-4299-B01E-E4A2381A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F4E0B8C-2C1C-4D8B-BD8F-750AC9D5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4674275-C87C-4F36-BE9E-48437E69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A63CAC8-01E2-4F08-BD85-5859C1EA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EC26F70-03B1-42E8-B026-DD7DBAE0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D389C36-668B-4355-A464-BCE8962B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1C5F8DF-6CCA-4EB1-BCB6-C6125764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FF28B3-8137-4544-9BF1-C3E764F9CAAB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094D72F-C617-41EE-A09B-ED794A98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1D57306-363B-42B3-ADF1-6D7BC463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4483B14-6CB1-41C9-BE37-A1452056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2A28C63-9AC8-4B54-8B95-FB593B89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1391BC0-4BE2-4B9C-93F3-4A538618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29CA52A-936C-4487-B02A-EF343142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1F74F25-CB16-43E2-8CEB-733C9B0F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9DFE6C3-17D2-40F1-BD6E-1D8FA73A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4DC7E43-C787-4DB9-8876-429C398E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2C87524-6874-48BC-953C-D9A06A54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2780F4-750C-4E24-A1C9-C59FEEBC458A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C542F24-CDE4-4B21-B76D-1E8EE195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DB0DDD4-8197-4A38-90C7-016D86A8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9EE68FE-F70F-4B80-B4D2-8A6B7310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B9C8B76-E48D-4409-8000-1738C4BE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A600AF8-B9E3-4734-BBFB-1B85064B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DFA5615-CFBA-468E-8DEC-5314B158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A886983-DEC4-480F-A560-538D9DE8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BC2A81A-9198-44F8-8CE2-96E8D8BB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CB9EC29-1A9E-450C-B3E8-A485C130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104948D-30DF-4F57-BF80-709CA819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97158-D8F1-4C77-8D8E-5CFF0E1AD72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7B5072-CE88-463B-AB95-6F6FCD18282B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F7463B2-A341-413C-9051-0778CE2A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FA3E973-C88B-4BCF-94DA-25D50085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6558B5E-FA71-4AAC-962B-B4E3BBFB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88E4B74-2E6F-4345-B7B4-4F1CDF21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9E5101B-BCCD-48F5-B8A5-30E5BB63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CE45244-88B6-4DB6-8EF2-0E84DD03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B6ACBAB-CBE5-4EB7-97EF-2A067304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EF0ACD9-69AB-40A7-AE6E-49DF9DC5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745CA88-1535-4C45-AA4C-EE234114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F620CF5-1487-4F2C-9DDD-9812A7B9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AE340F-D5FB-4E4C-AF25-493FFE0DA466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1BA0512-084B-4A9F-9809-FB61682C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007DF4E-E723-4F10-AD18-0D209501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349AB6F-28BE-4D43-84AE-76024A94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ABAC0A2-D113-4BA5-9290-28CC635D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8538C00-8A9B-485B-9FA6-2977745C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8BF02F1-D4E0-4E43-B986-CD54D5AD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518433D-F99F-4873-9E8D-61757625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D2AF745-F0DB-4385-9D51-07C497FA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A0ABC0F-0DC2-4CBC-B443-D9E4BBD0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EC8E0B2-FD61-44BA-B10A-AB1A7914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63A2E1-959F-4914-A2C2-FF3F1FDB828D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603E71E-8703-4DFD-B84C-1730FF4E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C76DBF-DAAF-40E8-B49B-CB55BAAEC38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38EE2D-1095-4E81-807B-AB36B4F2762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A94E58-73DA-4329-B949-478899979DB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28CC85-DECF-4194-AF3B-A2EBA800BA9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623814-9111-4AB1-BEA7-B62833FB153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C022C2-B463-42C1-8ECB-9D0E6FD843F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C3B525-EE9D-457F-8EA5-60ABFDF64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EB8FC-4774-4E1B-A4EE-6FF0C28399A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D33B96-1B10-4D17-B49D-0156418AA68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87F2C8-DAF5-40DB-9E40-8E0EAF85B4D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53FD4A-1026-4DDC-954B-94C17F4EC23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8122D2-0F4C-436E-AFAC-194ED1609BC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C8765D-6585-4B0B-8202-68B04EDCE79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D4DC3-CB58-417F-89C4-6019B60616B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45C18-1586-4C86-A1B3-566FADFF404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71B05-485F-4D15-9084-29AFFD50863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FCD9E-4ACB-4014-83F6-F45A114EFFF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06E0A-3373-4819-82EA-1EFC43121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82C33-68C4-4C5B-BB76-9A586807399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C3210-FFF7-44E6-88CA-27506D754A4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D7887-757B-4666-AAF3-FC076B813E6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D8EF4-94BE-44A4-A0E2-B7BA5B1C67C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3B21A-4E22-4E39-8C15-20602963A5C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26928-2D74-49E5-9A4A-9F1E4B66A22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32CCE-504F-4806-9C00-225EFDF655A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CD9A1-ED9F-4F1E-9192-1BEA8A575D4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569E5C-1678-4378-951D-B3BFAD6A192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FCD560-2A7E-47E7-9BE2-CF625BB2CE8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975C32-8B42-4D01-B2CB-473DBD5DD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3D8C-8F83-41CE-8760-4D91A70C7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16" descr="dog0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003640" y="2852640"/>
            <a:ext cx="4087800" cy="4016520"/>
          </a:xfrm>
          <a:prstGeom prst="rect">
            <a:avLst/>
          </a:prstGeom>
          <a:ln w="0">
            <a:noFill/>
          </a:ln>
        </p:spPr>
      </p:pic>
      <p:sp>
        <p:nvSpPr>
          <p:cNvPr id="3" name="Line 8"/>
          <p:cNvSpPr/>
          <p:nvPr/>
        </p:nvSpPr>
        <p:spPr>
          <a:xfrm>
            <a:off x="395280" y="836640"/>
            <a:ext cx="8229600" cy="0"/>
          </a:xfrm>
          <a:prstGeom prst="line">
            <a:avLst/>
          </a:prstGeom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7242840" y="653904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责任  品质  诚信  创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内容占位符 6" descr=""/>
          <p:cNvPicPr/>
          <p:nvPr/>
        </p:nvPicPr>
        <p:blipFill>
          <a:blip r:embed="rId3"/>
          <a:stretch/>
        </p:blipFill>
        <p:spPr>
          <a:xfrm>
            <a:off x="393840" y="115920"/>
            <a:ext cx="2377800" cy="7207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ww.TimeBook.c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2"/>
          <p:cNvSpPr/>
          <p:nvPr/>
        </p:nvSpPr>
        <p:spPr>
          <a:xfrm>
            <a:off x="7603200" y="652464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责任  品质  诚信  创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2"/>
          <p:cNvGrpSpPr/>
          <p:nvPr/>
        </p:nvGrpSpPr>
        <p:grpSpPr>
          <a:xfrm>
            <a:off x="324000" y="836640"/>
            <a:ext cx="6911640" cy="1296720"/>
            <a:chOff x="324000" y="836640"/>
            <a:chExt cx="6911640" cy="1296720"/>
          </a:xfrm>
        </p:grpSpPr>
        <p:sp>
          <p:nvSpPr>
            <p:cNvPr id="9" name="Oval 3"/>
            <p:cNvSpPr/>
            <p:nvPr/>
          </p:nvSpPr>
          <p:spPr>
            <a:xfrm>
              <a:off x="324000" y="1011240"/>
              <a:ext cx="1185480" cy="1122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4"/>
            <p:cNvSpPr/>
            <p:nvPr/>
          </p:nvSpPr>
          <p:spPr>
            <a:xfrm>
              <a:off x="1311120" y="1004760"/>
              <a:ext cx="60588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5"/>
            <p:cNvSpPr/>
            <p:nvPr/>
          </p:nvSpPr>
          <p:spPr>
            <a:xfrm>
              <a:off x="1851120" y="941400"/>
              <a:ext cx="60624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6"/>
            <p:cNvSpPr/>
            <p:nvPr/>
          </p:nvSpPr>
          <p:spPr>
            <a:xfrm>
              <a:off x="2320920" y="941400"/>
              <a:ext cx="788760" cy="6858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7"/>
            <p:cNvSpPr/>
            <p:nvPr/>
          </p:nvSpPr>
          <p:spPr>
            <a:xfrm>
              <a:off x="3051360" y="941400"/>
              <a:ext cx="6537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8"/>
            <p:cNvSpPr/>
            <p:nvPr/>
          </p:nvSpPr>
          <p:spPr>
            <a:xfrm>
              <a:off x="3482640" y="836640"/>
              <a:ext cx="6537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9"/>
            <p:cNvSpPr/>
            <p:nvPr/>
          </p:nvSpPr>
          <p:spPr>
            <a:xfrm>
              <a:off x="4002120" y="941400"/>
              <a:ext cx="6519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4327920" y="836640"/>
              <a:ext cx="6519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4832640" y="1039680"/>
              <a:ext cx="6519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5307480" y="941400"/>
              <a:ext cx="8301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6018480" y="836640"/>
              <a:ext cx="83160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6820200" y="941400"/>
              <a:ext cx="415440" cy="455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6D6D-0684-4DEC-963E-308EEC62B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7761-1516-41CA-AB8A-4E5F8A515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68DE-6A71-4B5C-80D8-AA5AAABC4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3891-968D-42F2-B43E-C66E4C95B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499A-BEA6-4D53-A4C1-888BFA17F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F9FE-62E9-4D16-8780-B7E70AEFD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4AC5-7C9A-4AAB-A8C4-D50E8D5D5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组合 3072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668" name="椭圆 3072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椭圆 3072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椭圆 3072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椭圆 3072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椭圆 3072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椭圆 3072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4" name="内容占位符 6" descr=""/>
          <p:cNvPicPr/>
          <p:nvPr/>
        </p:nvPicPr>
        <p:blipFill>
          <a:blip r:embed="rId2"/>
          <a:stretch/>
        </p:blipFill>
        <p:spPr>
          <a:xfrm>
            <a:off x="393840" y="115920"/>
            <a:ext cx="2377800" cy="72072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5B85-1948-4796-AF72-E6BFBB5F7BF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BDD5-4C13-4167-945F-5B86E49B1FE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B706-8DB6-419B-B27A-A346542BE8E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2969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58" name="组合 2969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59" name="椭圆 2969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2970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2970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2970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2970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DF17-732A-4EFB-BB4A-E2D274561BA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内容占位符 6" descr=""/>
          <p:cNvPicPr/>
          <p:nvPr/>
        </p:nvPicPr>
        <p:blipFill>
          <a:blip r:embed="rId3"/>
          <a:stretch/>
        </p:blipFill>
        <p:spPr>
          <a:xfrm>
            <a:off x="393840" y="115920"/>
            <a:ext cx="237780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1576-916F-4BDA-A34B-DACA3988102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F045-5224-4DBE-A1FB-E54CD62B08B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CFC8-CA8A-4206-9CA2-39AFA3958C7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61DA-DA87-419F-BD6E-802253D7E9E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dt" idx="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ftr" idx="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D392-C07D-4E6D-861B-45FD1F9A19E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515B-E53F-4311-B979-58BC6281151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9CB2-6FB4-4256-901D-12AF057729F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5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5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E4C9-FBC9-47AC-B4D2-38E6FDAF3B0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组合 33793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127" name="椭圆 33794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椭圆 33795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椭圆 33796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椭圆 33797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椭圆 33798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椭圆 33799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dt" idx="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 type="ftr" idx="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 type="sldNum" idx="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979D-517B-4A03-8210-14F7402E291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dt" idx="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 type="ftr" idx="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 type="sldNum" idx="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08E7-8323-46DA-9EB5-3E50B8F8A7D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32769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07" name="组合 32770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08" name="椭圆 32771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32772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32773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32774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32775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FD42-2418-4871-99EE-37985408CA9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dt" idx="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ftr" idx="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 type="sldNum" idx="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CF21-CFDC-431A-A69E-553A944F84A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6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ftr" idx="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sldNum" idx="6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C375-7F54-41DD-B9E6-955C91933D0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 type="dt" idx="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 type="ftr" idx="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 type="sldNum" idx="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9BAD-B955-4A5B-B694-F0465E90999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 type="dt" idx="7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 type="ftr" idx="7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 type="sldNum" idx="7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6824-1542-4F6B-8D04-DF6A5F0A2F0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 type="dt" idx="7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 type="ftr" idx="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 type="sldNum" idx="7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8B33-4A1F-4240-826D-52714904976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 type="dt" idx="7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 type="ftr" idx="7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 type="sldNum" idx="8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8E87-CA50-43D5-A8B5-CB64958B977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 type="dt" idx="8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 type="ftr" idx="8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 type="sldNum" idx="8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B38D-C42A-48D3-B0A1-091ED09F02B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 type="dt" idx="8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E7EF-5650-4FA7-ABBC-A72A4428715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dt" idx="8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ftr" idx="8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 type="sldNum" idx="8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DEDE-A31F-417A-9408-A16CFC0732A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 type="dt" idx="9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 type="sldNum" idx="9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FB74-3B81-4083-AD4C-C239E611E8F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5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5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A268-3198-4D5C-AD14-294F0283C18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 type="dt" idx="9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2691-4F9C-4F0E-B78F-959D66056F6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 type="dt" idx="9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 type="sldNum" idx="9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2994-9746-4655-A5E5-27218E20082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 type="dt" idx="9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 type="sldNum" idx="9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F4BD-59F1-4427-8FCA-B8759CB6ED9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 type="dt" idx="9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 type="sldNum" idx="9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B53D-05EB-47AD-BD6B-359D4A0C7C4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 type="dt" idx="10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 type="sldNum" idx="10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6773-C826-4024-A1D5-BBA024CA9EC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 type="dt" idx="10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 type="sldNum" idx="10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D68B-AD7C-493E-BE27-71154576E13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 type="dt" idx="10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 type="sldNum" idx="10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8CAF-41F8-4D1C-A277-76D2EB1D588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 type="sldNum" idx="10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FDE3-130C-46C6-B2C7-1B9F0C67932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 type="dt" idx="10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 type="sldNum" idx="10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B036-5AE9-41ED-A067-D8906557A07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 type="dt" idx="1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097A-FF71-42E5-9BAB-8FC766F172F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202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03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169B-1394-402B-A483-587F73DB0972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 type="dt" idx="1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 type="ftr" idx="11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81C7-2CF4-471E-8E30-957A898AD47C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 type="ftr" idx="11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C443-BA5F-475F-8ACB-3E0EA6444550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 type="dt" idx="1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 type="ftr" idx="11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BFF8-1ED4-47FA-9724-DF913997296C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 type="ftr" idx="12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7DCE-A64D-40A6-8D21-356EF7882F85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 type="ftr" idx="12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86EB-57FA-44D9-9A56-B6EAEDC53A73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 type="dt" idx="1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 type="ftr" idx="12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63DD-DEDB-46F7-BE71-516A15C14025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 type="dt" idx="1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 type="ftr" idx="13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7231-728F-4D47-9B2D-7A5E55718662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 type="dt" idx="1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 type="ftr" idx="13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75A7-6C6C-4133-9D37-1A2E1B551590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 type="dt" idx="1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 type="ftr" idx="13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A34C-603D-4AF9-B100-CCAC0757A924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 type="ftr" idx="14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3A3F-1746-404D-9A1D-6FA44971A29D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E3F7-602B-4A1C-A6DA-071EFAC3B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4"/>
          <p:cNvSpPr>
            <a:spLocks noGrp="1"/>
          </p:cNvSpPr>
          <p:nvPr>
            <p:ph type="ftr" idx="14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B076-FDA4-44BC-8BEC-D0CAF03D5A8F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CEB6-47A1-442F-A910-E3C418985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A3AC-2693-41F4-8100-FFF390B7E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3D54-372F-46CF-804B-646E5FDB7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5.wmf"/><Relationship Id="rId3" Type="http://schemas.openxmlformats.org/officeDocument/2006/relationships/image" Target="../media/image76.wmf"/><Relationship Id="rId4" Type="http://schemas.openxmlformats.org/officeDocument/2006/relationships/image" Target="../media/image77.wmf"/><Relationship Id="rId5" Type="http://schemas.openxmlformats.org/officeDocument/2006/relationships/image" Target="../media/image78.wmf"/><Relationship Id="rId6" Type="http://schemas.openxmlformats.org/officeDocument/2006/relationships/image" Target="../media/image79.wmf"/><Relationship Id="rId7" Type="http://schemas.openxmlformats.org/officeDocument/2006/relationships/image" Target="../media/image80.wmf"/><Relationship Id="rId8" Type="http://schemas.openxmlformats.org/officeDocument/2006/relationships/image" Target="../media/image81.wmf"/><Relationship Id="rId9" Type="http://schemas.openxmlformats.org/officeDocument/2006/relationships/image" Target="../media/image82.wmf"/><Relationship Id="rId10" Type="http://schemas.openxmlformats.org/officeDocument/2006/relationships/image" Target="../media/image62.wmf"/><Relationship Id="rId11" Type="http://schemas.openxmlformats.org/officeDocument/2006/relationships/image" Target="../media/image63.wmf"/><Relationship Id="rId12" Type="http://schemas.openxmlformats.org/officeDocument/2006/relationships/image" Target="../media/image64.wmf"/><Relationship Id="rId13" Type="http://schemas.openxmlformats.org/officeDocument/2006/relationships/image" Target="../media/image65.wmf"/><Relationship Id="rId14" Type="http://schemas.openxmlformats.org/officeDocument/2006/relationships/image" Target="../media/image66.wmf"/><Relationship Id="rId15" Type="http://schemas.openxmlformats.org/officeDocument/2006/relationships/image" Target="../media/image67.wmf"/><Relationship Id="rId16" Type="http://schemas.openxmlformats.org/officeDocument/2006/relationships/image" Target="../media/image68.wmf"/><Relationship Id="rId17" Type="http://schemas.openxmlformats.org/officeDocument/2006/relationships/image" Target="../media/image69.wmf"/><Relationship Id="rId18" Type="http://schemas.openxmlformats.org/officeDocument/2006/relationships/slideLayout" Target="../slideLayouts/slideLayout5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5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5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image" Target="../media/image27.wmf"/><Relationship Id="rId11" Type="http://schemas.openxmlformats.org/officeDocument/2006/relationships/image" Target="../media/image28.wmf"/><Relationship Id="rId12" Type="http://schemas.openxmlformats.org/officeDocument/2006/relationships/image" Target="../media/image29.wmf"/><Relationship Id="rId13" Type="http://schemas.openxmlformats.org/officeDocument/2006/relationships/image" Target="../media/image30.wmf"/><Relationship Id="rId14" Type="http://schemas.openxmlformats.org/officeDocument/2006/relationships/image" Target="../media/image31.wmf"/><Relationship Id="rId15" Type="http://schemas.openxmlformats.org/officeDocument/2006/relationships/image" Target="../media/image32.wmf"/><Relationship Id="rId16" Type="http://schemas.openxmlformats.org/officeDocument/2006/relationships/image" Target="../media/image33.wmf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5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4.jpeg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image" Target="../media/image40.wmf"/><Relationship Id="rId9" Type="http://schemas.openxmlformats.org/officeDocument/2006/relationships/image" Target="../media/image41.jpeg"/><Relationship Id="rId10" Type="http://schemas.openxmlformats.org/officeDocument/2006/relationships/image" Target="../media/image42.wmf"/><Relationship Id="rId11" Type="http://schemas.openxmlformats.org/officeDocument/2006/relationships/image" Target="../media/image43.wmf"/><Relationship Id="rId12" Type="http://schemas.openxmlformats.org/officeDocument/2006/relationships/image" Target="../media/image44.wmf"/><Relationship Id="rId13" Type="http://schemas.openxmlformats.org/officeDocument/2006/relationships/image" Target="../media/image40.wmf"/><Relationship Id="rId14" Type="http://schemas.openxmlformats.org/officeDocument/2006/relationships/slideLayout" Target="../slideLayouts/slideLayout5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9.wmf"/><Relationship Id="rId6" Type="http://schemas.openxmlformats.org/officeDocument/2006/relationships/image" Target="../media/image5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image" Target="../media/image53.wmf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5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image" Target="../media/image59.wmf"/><Relationship Id="rId8" Type="http://schemas.openxmlformats.org/officeDocument/2006/relationships/image" Target="../media/image60.wmf"/><Relationship Id="rId9" Type="http://schemas.openxmlformats.org/officeDocument/2006/relationships/image" Target="../media/image61.wmf"/><Relationship Id="rId10" Type="http://schemas.openxmlformats.org/officeDocument/2006/relationships/image" Target="../media/image62.wmf"/><Relationship Id="rId11" Type="http://schemas.openxmlformats.org/officeDocument/2006/relationships/image" Target="../media/image63.wmf"/><Relationship Id="rId12" Type="http://schemas.openxmlformats.org/officeDocument/2006/relationships/image" Target="../media/image64.wmf"/><Relationship Id="rId13" Type="http://schemas.openxmlformats.org/officeDocument/2006/relationships/image" Target="../media/image65.wmf"/><Relationship Id="rId14" Type="http://schemas.openxmlformats.org/officeDocument/2006/relationships/image" Target="../media/image66.wmf"/><Relationship Id="rId15" Type="http://schemas.openxmlformats.org/officeDocument/2006/relationships/image" Target="../media/image67.wmf"/><Relationship Id="rId16" Type="http://schemas.openxmlformats.org/officeDocument/2006/relationships/image" Target="../media/image68.wmf"/><Relationship Id="rId17" Type="http://schemas.openxmlformats.org/officeDocument/2006/relationships/image" Target="../media/image69.wmf"/><Relationship Id="rId18" Type="http://schemas.openxmlformats.org/officeDocument/2006/relationships/slideLayout" Target="../slideLayouts/slideLayout5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image" Target="../media/image73.wmf"/><Relationship Id="rId6" Type="http://schemas.openxmlformats.org/officeDocument/2006/relationships/slideLayout" Target="../slideLayouts/slideLayout5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AutoShape 8"/>
          <p:cNvSpPr/>
          <p:nvPr/>
        </p:nvSpPr>
        <p:spPr>
          <a:xfrm>
            <a:off x="8736120" y="208584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AutoShape 9"/>
          <p:cNvSpPr/>
          <p:nvPr/>
        </p:nvSpPr>
        <p:spPr>
          <a:xfrm>
            <a:off x="8291520" y="1803240"/>
            <a:ext cx="430200" cy="432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AutoShape 13"/>
          <p:cNvSpPr/>
          <p:nvPr/>
        </p:nvSpPr>
        <p:spPr>
          <a:xfrm>
            <a:off x="8367840" y="141300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AutoShape 10"/>
          <p:cNvSpPr/>
          <p:nvPr/>
        </p:nvSpPr>
        <p:spPr>
          <a:xfrm>
            <a:off x="507960" y="368928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AutoShape 11"/>
          <p:cNvSpPr/>
          <p:nvPr/>
        </p:nvSpPr>
        <p:spPr>
          <a:xfrm>
            <a:off x="210960" y="3392640"/>
            <a:ext cx="297000" cy="296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AutoShape 12"/>
          <p:cNvSpPr/>
          <p:nvPr/>
        </p:nvSpPr>
        <p:spPr>
          <a:xfrm>
            <a:off x="108000" y="4159080"/>
            <a:ext cx="206280" cy="20664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1" name="Group 5"/>
          <p:cNvGrpSpPr/>
          <p:nvPr/>
        </p:nvGrpSpPr>
        <p:grpSpPr>
          <a:xfrm>
            <a:off x="2367720" y="3889440"/>
            <a:ext cx="890640" cy="757080"/>
            <a:chOff x="2367720" y="3889440"/>
            <a:chExt cx="890640" cy="757080"/>
          </a:xfrm>
        </p:grpSpPr>
        <p:sp>
          <p:nvSpPr>
            <p:cNvPr id="2482" name="AutoShape 6"/>
            <p:cNvSpPr/>
            <p:nvPr/>
          </p:nvSpPr>
          <p:spPr>
            <a:xfrm rot="720000">
              <a:off x="2422080" y="3963960"/>
              <a:ext cx="781200" cy="608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AutoShape 7"/>
            <p:cNvSpPr/>
            <p:nvPr/>
          </p:nvSpPr>
          <p:spPr>
            <a:xfrm rot="720000">
              <a:off x="2442600" y="3983040"/>
              <a:ext cx="737280" cy="55764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问题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4" name="Group 8"/>
          <p:cNvGrpSpPr/>
          <p:nvPr/>
        </p:nvGrpSpPr>
        <p:grpSpPr>
          <a:xfrm>
            <a:off x="3699000" y="3969360"/>
            <a:ext cx="813240" cy="692640"/>
            <a:chOff x="3699000" y="3969360"/>
            <a:chExt cx="813240" cy="692640"/>
          </a:xfrm>
        </p:grpSpPr>
        <p:sp>
          <p:nvSpPr>
            <p:cNvPr id="2485" name="AutoShape 9"/>
            <p:cNvSpPr/>
            <p:nvPr/>
          </p:nvSpPr>
          <p:spPr>
            <a:xfrm rot="120000">
              <a:off x="3710160" y="3982680"/>
              <a:ext cx="790560" cy="6652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AutoShape 10"/>
            <p:cNvSpPr/>
            <p:nvPr/>
          </p:nvSpPr>
          <p:spPr>
            <a:xfrm rot="120000">
              <a:off x="3729600" y="4004280"/>
              <a:ext cx="746280" cy="60984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探究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7" name="Group 11"/>
          <p:cNvGrpSpPr/>
          <p:nvPr/>
        </p:nvGrpSpPr>
        <p:grpSpPr>
          <a:xfrm>
            <a:off x="4965480" y="3875040"/>
            <a:ext cx="868680" cy="667800"/>
            <a:chOff x="4965480" y="3875040"/>
            <a:chExt cx="868680" cy="667800"/>
          </a:xfrm>
        </p:grpSpPr>
        <p:sp>
          <p:nvSpPr>
            <p:cNvPr id="2488" name="AutoShape 12"/>
            <p:cNvSpPr/>
            <p:nvPr/>
          </p:nvSpPr>
          <p:spPr>
            <a:xfrm rot="21060000">
              <a:off x="5003640" y="3933360"/>
              <a:ext cx="792360" cy="5508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AutoShape 13"/>
            <p:cNvSpPr/>
            <p:nvPr/>
          </p:nvSpPr>
          <p:spPr>
            <a:xfrm rot="21060000">
              <a:off x="5022000" y="3951720"/>
              <a:ext cx="747720" cy="50508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练习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0" name="Group 14"/>
          <p:cNvGrpSpPr/>
          <p:nvPr/>
        </p:nvGrpSpPr>
        <p:grpSpPr>
          <a:xfrm>
            <a:off x="6146640" y="3777840"/>
            <a:ext cx="954720" cy="840240"/>
            <a:chOff x="6146640" y="3777840"/>
            <a:chExt cx="954720" cy="840240"/>
          </a:xfrm>
        </p:grpSpPr>
        <p:sp>
          <p:nvSpPr>
            <p:cNvPr id="2491" name="AutoShape 15"/>
            <p:cNvSpPr/>
            <p:nvPr/>
          </p:nvSpPr>
          <p:spPr>
            <a:xfrm rot="20220000">
              <a:off x="6227640" y="3909600"/>
              <a:ext cx="792360" cy="57636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AutoShape 16"/>
            <p:cNvSpPr/>
            <p:nvPr/>
          </p:nvSpPr>
          <p:spPr>
            <a:xfrm rot="20220000">
              <a:off x="6245280" y="3929760"/>
              <a:ext cx="747720" cy="52848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拓展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3" name="TextBox 15"/>
          <p:cNvSpPr/>
          <p:nvPr/>
        </p:nvSpPr>
        <p:spPr>
          <a:xfrm>
            <a:off x="7524720" y="4202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矩形 24"/>
          <p:cNvSpPr/>
          <p:nvPr/>
        </p:nvSpPr>
        <p:spPr>
          <a:xfrm>
            <a:off x="1908000" y="1197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教版六年级上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元总复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矩形 25"/>
          <p:cNvSpPr/>
          <p:nvPr/>
        </p:nvSpPr>
        <p:spPr>
          <a:xfrm>
            <a:off x="2286000" y="2890800"/>
            <a:ext cx="559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课时：分数乘除法、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2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763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5" name="Text Box 4"/>
          <p:cNvSpPr/>
          <p:nvPr/>
        </p:nvSpPr>
        <p:spPr>
          <a:xfrm>
            <a:off x="4463640" y="1989000"/>
            <a:ext cx="378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两个数相除又叫做两个数的比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6" name="Group 5"/>
          <p:cNvGrpSpPr/>
          <p:nvPr/>
        </p:nvGrpSpPr>
        <p:grpSpPr>
          <a:xfrm>
            <a:off x="5429520" y="2641680"/>
            <a:ext cx="1639080" cy="657720"/>
            <a:chOff x="5429520" y="2641680"/>
            <a:chExt cx="1639080" cy="657720"/>
          </a:xfrm>
        </p:grpSpPr>
        <p:sp>
          <p:nvSpPr>
            <p:cNvPr id="2777" name="Text Box 6"/>
            <p:cNvSpPr/>
            <p:nvPr/>
          </p:nvSpPr>
          <p:spPr>
            <a:xfrm>
              <a:off x="5429520" y="2718000"/>
              <a:ext cx="163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5     10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Rectangle 7"/>
            <p:cNvSpPr/>
            <p:nvPr/>
          </p:nvSpPr>
          <p:spPr>
            <a:xfrm>
              <a:off x="6217200" y="26416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：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9" name="Text Box 8"/>
          <p:cNvSpPr/>
          <p:nvPr/>
        </p:nvSpPr>
        <p:spPr>
          <a:xfrm>
            <a:off x="2114640" y="2717640"/>
            <a:ext cx="25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5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比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0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记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0" name="Group 9"/>
          <p:cNvGrpSpPr/>
          <p:nvPr/>
        </p:nvGrpSpPr>
        <p:grpSpPr>
          <a:xfrm>
            <a:off x="5429520" y="3218040"/>
            <a:ext cx="1639080" cy="657720"/>
            <a:chOff x="5429520" y="3218040"/>
            <a:chExt cx="1639080" cy="657720"/>
          </a:xfrm>
        </p:grpSpPr>
        <p:sp>
          <p:nvSpPr>
            <p:cNvPr id="2781" name="Text Box 10"/>
            <p:cNvSpPr/>
            <p:nvPr/>
          </p:nvSpPr>
          <p:spPr>
            <a:xfrm>
              <a:off x="5429520" y="3294360"/>
              <a:ext cx="163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0     15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Rectangle 11"/>
            <p:cNvSpPr/>
            <p:nvPr/>
          </p:nvSpPr>
          <p:spPr>
            <a:xfrm>
              <a:off x="6217200" y="32180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：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3" name="Text Box 12"/>
          <p:cNvSpPr/>
          <p:nvPr/>
        </p:nvSpPr>
        <p:spPr>
          <a:xfrm>
            <a:off x="2114640" y="3294000"/>
            <a:ext cx="25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比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5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记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4" name="Group 13"/>
          <p:cNvGrpSpPr/>
          <p:nvPr/>
        </p:nvGrpSpPr>
        <p:grpSpPr>
          <a:xfrm>
            <a:off x="5403960" y="3735360"/>
            <a:ext cx="2233440" cy="624240"/>
            <a:chOff x="5403960" y="3735360"/>
            <a:chExt cx="2233440" cy="624240"/>
          </a:xfrm>
        </p:grpSpPr>
        <p:sp>
          <p:nvSpPr>
            <p:cNvPr id="2785" name="Text Box 14"/>
            <p:cNvSpPr/>
            <p:nvPr/>
          </p:nvSpPr>
          <p:spPr>
            <a:xfrm>
              <a:off x="5403960" y="3778200"/>
              <a:ext cx="223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42252    90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Rectangle 15"/>
            <p:cNvSpPr/>
            <p:nvPr/>
          </p:nvSpPr>
          <p:spPr>
            <a:xfrm>
              <a:off x="6572160" y="3735360"/>
              <a:ext cx="73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：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7" name="Text Box 16"/>
          <p:cNvSpPr/>
          <p:nvPr/>
        </p:nvSpPr>
        <p:spPr>
          <a:xfrm>
            <a:off x="1517760" y="3865680"/>
            <a:ext cx="33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225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比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90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记作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矩形 38"/>
          <p:cNvSpPr/>
          <p:nvPr/>
        </p:nvSpPr>
        <p:spPr>
          <a:xfrm>
            <a:off x="1828800" y="1341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比的计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9" name="组合 45"/>
          <p:cNvGrpSpPr/>
          <p:nvPr/>
        </p:nvGrpSpPr>
        <p:grpSpPr>
          <a:xfrm>
            <a:off x="1228320" y="4437000"/>
            <a:ext cx="7147800" cy="1793880"/>
            <a:chOff x="1228320" y="4437000"/>
            <a:chExt cx="7147800" cy="1793880"/>
          </a:xfrm>
        </p:grpSpPr>
        <p:sp>
          <p:nvSpPr>
            <p:cNvPr id="2790" name="Text Box 5"/>
            <p:cNvSpPr/>
            <p:nvPr/>
          </p:nvSpPr>
          <p:spPr>
            <a:xfrm>
              <a:off x="1228320" y="4674600"/>
              <a:ext cx="7147800" cy="1556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buClr>
                  <a:srgbClr val="ff0000"/>
                </a:buClr>
                <a:buFont typeface="Arial"/>
                <a:buAutoNum type="arabicPlain" startAt="15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 </a:t>
              </a:r>
              <a:r>
                <a:rPr b="1" lang="en-US" sz="4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︰</a:t>
              </a:r>
              <a:r>
                <a:rPr b="1" lang="en-US" sz="4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0</a:t>
              </a: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也可以写成      ，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仍读作“</a:t>
              </a:r>
              <a:r>
                <a:rPr b="1" lang="en-US" sz="4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5</a:t>
              </a: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比</a:t>
              </a:r>
              <a:r>
                <a:rPr b="1" lang="en-US" sz="4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0”</a:t>
              </a: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。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1" name="Group 6" descr=""/>
            <p:cNvPicPr/>
            <p:nvPr/>
          </p:nvPicPr>
          <p:blipFill>
            <a:blip r:embed="rId1"/>
            <a:stretch/>
          </p:blipFill>
          <p:spPr>
            <a:xfrm>
              <a:off x="6443280" y="4437000"/>
              <a:ext cx="1207080" cy="131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2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793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794" name="五边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5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6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3" dur="500"/>
                                        <p:tgtEl>
                                          <p:spTgt spid="2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8" dur="1000"/>
                                        <p:tgtEl>
                                          <p:spTgt spid="2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1" dur="1000"/>
                                        <p:tgtEl>
                                          <p:spTgt spid="2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4" dur="1000"/>
                                        <p:tgtEl>
                                          <p:spTgt spid="2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7" dur="1000"/>
                                        <p:tgtEl>
                                          <p:spTgt spid="2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0" dur="1000"/>
                                        <p:tgtEl>
                                          <p:spTgt spid="2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3" dur="1000"/>
                                        <p:tgtEl>
                                          <p:spTgt spid="2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8" dur="10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7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798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0" name="Rectangle 4"/>
          <p:cNvSpPr/>
          <p:nvPr/>
        </p:nvSpPr>
        <p:spPr>
          <a:xfrm>
            <a:off x="4786200" y="3357720"/>
            <a:ext cx="649440" cy="64764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Rectangle 5"/>
          <p:cNvSpPr/>
          <p:nvPr/>
        </p:nvSpPr>
        <p:spPr>
          <a:xfrm>
            <a:off x="6875640" y="3357720"/>
            <a:ext cx="647640" cy="64764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Rectangle 6"/>
          <p:cNvSpPr/>
          <p:nvPr/>
        </p:nvSpPr>
        <p:spPr>
          <a:xfrm>
            <a:off x="5937120" y="3357720"/>
            <a:ext cx="649440" cy="647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Rectangle 7"/>
          <p:cNvSpPr/>
          <p:nvPr/>
        </p:nvSpPr>
        <p:spPr>
          <a:xfrm>
            <a:off x="3635280" y="3357720"/>
            <a:ext cx="647640" cy="647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Line 8"/>
          <p:cNvSpPr/>
          <p:nvPr/>
        </p:nvSpPr>
        <p:spPr>
          <a:xfrm>
            <a:off x="4535640" y="4078440"/>
            <a:ext cx="0" cy="7920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Text Box 9"/>
          <p:cNvSpPr/>
          <p:nvPr/>
        </p:nvSpPr>
        <p:spPr>
          <a:xfrm>
            <a:off x="4308840" y="486252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6" name="Group 11"/>
          <p:cNvGrpSpPr/>
          <p:nvPr/>
        </p:nvGrpSpPr>
        <p:grpSpPr>
          <a:xfrm>
            <a:off x="3605040" y="3305160"/>
            <a:ext cx="2351160" cy="775440"/>
            <a:chOff x="3605040" y="3305160"/>
            <a:chExt cx="2351160" cy="775440"/>
          </a:xfrm>
        </p:grpSpPr>
        <p:sp>
          <p:nvSpPr>
            <p:cNvPr id="2817" name="Text Box 12"/>
            <p:cNvSpPr/>
            <p:nvPr/>
          </p:nvSpPr>
          <p:spPr>
            <a:xfrm>
              <a:off x="3605040" y="3376440"/>
              <a:ext cx="187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5    10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Rectangle 13"/>
            <p:cNvSpPr/>
            <p:nvPr/>
          </p:nvSpPr>
          <p:spPr>
            <a:xfrm>
              <a:off x="4452120" y="33051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Rectangle 14"/>
            <p:cNvSpPr/>
            <p:nvPr/>
          </p:nvSpPr>
          <p:spPr>
            <a:xfrm>
              <a:off x="5440320" y="331632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0" name="Group 15"/>
          <p:cNvGrpSpPr/>
          <p:nvPr/>
        </p:nvGrpSpPr>
        <p:grpSpPr>
          <a:xfrm>
            <a:off x="5821920" y="3303720"/>
            <a:ext cx="2079000" cy="776880"/>
            <a:chOff x="5821920" y="3303720"/>
            <a:chExt cx="2079000" cy="776880"/>
          </a:xfrm>
        </p:grpSpPr>
        <p:sp>
          <p:nvSpPr>
            <p:cNvPr id="2821" name="Text Box 16"/>
            <p:cNvSpPr/>
            <p:nvPr/>
          </p:nvSpPr>
          <p:spPr>
            <a:xfrm>
              <a:off x="5821920" y="3376800"/>
              <a:ext cx="1733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5   10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Rectangle 17"/>
            <p:cNvSpPr/>
            <p:nvPr/>
          </p:nvSpPr>
          <p:spPr>
            <a:xfrm>
              <a:off x="6462720" y="3303720"/>
              <a:ext cx="487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÷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Rectangle 18"/>
            <p:cNvSpPr/>
            <p:nvPr/>
          </p:nvSpPr>
          <p:spPr>
            <a:xfrm>
              <a:off x="7385040" y="331632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4" name="Group 19"/>
          <p:cNvGrpSpPr/>
          <p:nvPr/>
        </p:nvGrpSpPr>
        <p:grpSpPr>
          <a:xfrm>
            <a:off x="7845480" y="3187800"/>
            <a:ext cx="685800" cy="1147320"/>
            <a:chOff x="7845480" y="3187800"/>
            <a:chExt cx="685800" cy="1147320"/>
          </a:xfrm>
        </p:grpSpPr>
        <p:sp>
          <p:nvSpPr>
            <p:cNvPr id="2825" name="Text Box 20"/>
            <p:cNvSpPr/>
            <p:nvPr/>
          </p:nvSpPr>
          <p:spPr>
            <a:xfrm>
              <a:off x="8096040" y="36925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Text Box 21"/>
            <p:cNvSpPr/>
            <p:nvPr/>
          </p:nvSpPr>
          <p:spPr>
            <a:xfrm>
              <a:off x="8093160" y="31878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Text Box 22"/>
            <p:cNvSpPr/>
            <p:nvPr/>
          </p:nvSpPr>
          <p:spPr>
            <a:xfrm>
              <a:off x="7845480" y="3319560"/>
              <a:ext cx="1825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Line 23"/>
            <p:cNvSpPr/>
            <p:nvPr/>
          </p:nvSpPr>
          <p:spPr>
            <a:xfrm>
              <a:off x="8096400" y="376416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9" name="Group 24"/>
          <p:cNvGrpSpPr/>
          <p:nvPr/>
        </p:nvGrpSpPr>
        <p:grpSpPr>
          <a:xfrm>
            <a:off x="539640" y="2060640"/>
            <a:ext cx="2592360" cy="1981440"/>
            <a:chOff x="539640" y="2060640"/>
            <a:chExt cx="2592360" cy="1981440"/>
          </a:xfrm>
        </p:grpSpPr>
        <p:grpSp>
          <p:nvGrpSpPr>
            <p:cNvPr id="2830" name="Group 25"/>
            <p:cNvGrpSpPr/>
            <p:nvPr/>
          </p:nvGrpSpPr>
          <p:grpSpPr>
            <a:xfrm>
              <a:off x="826920" y="2060640"/>
              <a:ext cx="2016360" cy="1255680"/>
              <a:chOff x="826920" y="2060640"/>
              <a:chExt cx="2016360" cy="1255680"/>
            </a:xfrm>
          </p:grpSpPr>
          <p:sp>
            <p:nvSpPr>
              <p:cNvPr id="2831" name="Rectangle 26"/>
              <p:cNvSpPr/>
              <p:nvPr/>
            </p:nvSpPr>
            <p:spPr>
              <a:xfrm>
                <a:off x="826920" y="2060640"/>
                <a:ext cx="2016360" cy="1255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AutoShape 27"/>
              <p:cNvSpPr/>
              <p:nvPr/>
            </p:nvSpPr>
            <p:spPr>
              <a:xfrm>
                <a:off x="1268280" y="2748600"/>
                <a:ext cx="134280" cy="132120"/>
              </a:xfrm>
              <a:custGeom>
                <a:avLst/>
                <a:gdLst/>
                <a:ahLst/>
                <a:rect l="l" t="t" r="r" b="b"/>
                <a:pathLst>
                  <a:path w="318" h="303">
                    <a:moveTo>
                      <a:pt x="0" y="116"/>
                    </a:moveTo>
                    <a:lnTo>
                      <a:pt x="121" y="116"/>
                    </a:lnTo>
                    <a:lnTo>
                      <a:pt x="159" y="0"/>
                    </a:lnTo>
                    <a:lnTo>
                      <a:pt x="197" y="116"/>
                    </a:lnTo>
                    <a:lnTo>
                      <a:pt x="318" y="116"/>
                    </a:lnTo>
                    <a:lnTo>
                      <a:pt x="220" y="187"/>
                    </a:lnTo>
                    <a:lnTo>
                      <a:pt x="257" y="303"/>
                    </a:lnTo>
                    <a:lnTo>
                      <a:pt x="159" y="231"/>
                    </a:lnTo>
                    <a:lnTo>
                      <a:pt x="61" y="303"/>
                    </a:lnTo>
                    <a:lnTo>
                      <a:pt x="98" y="18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AutoShape 28"/>
              <p:cNvSpPr/>
              <p:nvPr/>
            </p:nvSpPr>
            <p:spPr>
              <a:xfrm rot="20530800">
                <a:off x="1383480" y="2607480"/>
                <a:ext cx="76320" cy="74880"/>
              </a:xfrm>
              <a:custGeom>
                <a:avLst/>
                <a:gdLst/>
                <a:ahLst/>
                <a:rect l="l" t="t" r="r" b="b"/>
                <a:pathLst>
                  <a:path w="181" h="172">
                    <a:moveTo>
                      <a:pt x="0" y="66"/>
                    </a:moveTo>
                    <a:lnTo>
                      <a:pt x="69" y="66"/>
                    </a:lnTo>
                    <a:lnTo>
                      <a:pt x="91" y="0"/>
                    </a:lnTo>
                    <a:lnTo>
                      <a:pt x="112" y="66"/>
                    </a:lnTo>
                    <a:lnTo>
                      <a:pt x="181" y="66"/>
                    </a:lnTo>
                    <a:lnTo>
                      <a:pt x="125" y="106"/>
                    </a:lnTo>
                    <a:lnTo>
                      <a:pt x="146" y="172"/>
                    </a:lnTo>
                    <a:lnTo>
                      <a:pt x="91" y="131"/>
                    </a:lnTo>
                    <a:lnTo>
                      <a:pt x="35" y="172"/>
                    </a:lnTo>
                    <a:lnTo>
                      <a:pt x="56" y="10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AutoShape 29"/>
              <p:cNvSpPr/>
              <p:nvPr/>
            </p:nvSpPr>
            <p:spPr>
              <a:xfrm rot="20973000">
                <a:off x="1479960" y="2667240"/>
                <a:ext cx="76320" cy="74880"/>
              </a:xfrm>
              <a:custGeom>
                <a:avLst/>
                <a:gdLst/>
                <a:ahLst/>
                <a:rect l="l" t="t" r="r" b="b"/>
                <a:pathLst>
                  <a:path w="181" h="172">
                    <a:moveTo>
                      <a:pt x="0" y="66"/>
                    </a:moveTo>
                    <a:lnTo>
                      <a:pt x="69" y="66"/>
                    </a:lnTo>
                    <a:lnTo>
                      <a:pt x="91" y="0"/>
                    </a:lnTo>
                    <a:lnTo>
                      <a:pt x="112" y="66"/>
                    </a:lnTo>
                    <a:lnTo>
                      <a:pt x="181" y="66"/>
                    </a:lnTo>
                    <a:lnTo>
                      <a:pt x="125" y="106"/>
                    </a:lnTo>
                    <a:lnTo>
                      <a:pt x="146" y="172"/>
                    </a:lnTo>
                    <a:lnTo>
                      <a:pt x="91" y="131"/>
                    </a:lnTo>
                    <a:lnTo>
                      <a:pt x="35" y="172"/>
                    </a:lnTo>
                    <a:lnTo>
                      <a:pt x="56" y="10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AutoShape 30"/>
              <p:cNvSpPr/>
              <p:nvPr/>
            </p:nvSpPr>
            <p:spPr>
              <a:xfrm>
                <a:off x="1518120" y="2781720"/>
                <a:ext cx="76320" cy="74880"/>
              </a:xfrm>
              <a:custGeom>
                <a:avLst/>
                <a:gdLst/>
                <a:ahLst/>
                <a:rect l="l" t="t" r="r" b="b"/>
                <a:pathLst>
                  <a:path w="181" h="172">
                    <a:moveTo>
                      <a:pt x="0" y="66"/>
                    </a:moveTo>
                    <a:lnTo>
                      <a:pt x="69" y="66"/>
                    </a:lnTo>
                    <a:lnTo>
                      <a:pt x="91" y="0"/>
                    </a:lnTo>
                    <a:lnTo>
                      <a:pt x="112" y="66"/>
                    </a:lnTo>
                    <a:lnTo>
                      <a:pt x="181" y="66"/>
                    </a:lnTo>
                    <a:lnTo>
                      <a:pt x="125" y="106"/>
                    </a:lnTo>
                    <a:lnTo>
                      <a:pt x="146" y="172"/>
                    </a:lnTo>
                    <a:lnTo>
                      <a:pt x="91" y="131"/>
                    </a:lnTo>
                    <a:lnTo>
                      <a:pt x="35" y="172"/>
                    </a:lnTo>
                    <a:lnTo>
                      <a:pt x="56" y="10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AutoShape 31"/>
              <p:cNvSpPr/>
              <p:nvPr/>
            </p:nvSpPr>
            <p:spPr>
              <a:xfrm>
                <a:off x="1479960" y="2900520"/>
                <a:ext cx="76320" cy="74880"/>
              </a:xfrm>
              <a:custGeom>
                <a:avLst/>
                <a:gdLst/>
                <a:ahLst/>
                <a:rect l="l" t="t" r="r" b="b"/>
                <a:pathLst>
                  <a:path w="181" h="172">
                    <a:moveTo>
                      <a:pt x="0" y="66"/>
                    </a:moveTo>
                    <a:lnTo>
                      <a:pt x="69" y="66"/>
                    </a:lnTo>
                    <a:lnTo>
                      <a:pt x="91" y="0"/>
                    </a:lnTo>
                    <a:lnTo>
                      <a:pt x="112" y="66"/>
                    </a:lnTo>
                    <a:lnTo>
                      <a:pt x="181" y="66"/>
                    </a:lnTo>
                    <a:lnTo>
                      <a:pt x="125" y="106"/>
                    </a:lnTo>
                    <a:lnTo>
                      <a:pt x="146" y="172"/>
                    </a:lnTo>
                    <a:lnTo>
                      <a:pt x="91" y="131"/>
                    </a:lnTo>
                    <a:lnTo>
                      <a:pt x="35" y="172"/>
                    </a:lnTo>
                    <a:lnTo>
                      <a:pt x="56" y="10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7" name="Text Box 32"/>
            <p:cNvSpPr/>
            <p:nvPr/>
          </p:nvSpPr>
          <p:spPr>
            <a:xfrm>
              <a:off x="539640" y="3643200"/>
              <a:ext cx="25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长和宽的比是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15</a:t>
              </a: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比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Text Box 33"/>
            <p:cNvSpPr/>
            <p:nvPr/>
          </p:nvSpPr>
          <p:spPr>
            <a:xfrm>
              <a:off x="1073880" y="3268800"/>
              <a:ext cx="116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15÷10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9" name="Line 34"/>
          <p:cNvSpPr/>
          <p:nvPr/>
        </p:nvSpPr>
        <p:spPr>
          <a:xfrm>
            <a:off x="4032360" y="4078440"/>
            <a:ext cx="0" cy="7920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Line 35"/>
          <p:cNvSpPr/>
          <p:nvPr/>
        </p:nvSpPr>
        <p:spPr>
          <a:xfrm>
            <a:off x="5040360" y="4078440"/>
            <a:ext cx="0" cy="7920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Text Box 36"/>
          <p:cNvSpPr/>
          <p:nvPr/>
        </p:nvSpPr>
        <p:spPr>
          <a:xfrm>
            <a:off x="3804120" y="486900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Text Box 37"/>
          <p:cNvSpPr/>
          <p:nvPr/>
        </p:nvSpPr>
        <p:spPr>
          <a:xfrm>
            <a:off x="4821480" y="48830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Line 38"/>
          <p:cNvSpPr/>
          <p:nvPr/>
        </p:nvSpPr>
        <p:spPr>
          <a:xfrm>
            <a:off x="8292960" y="4141800"/>
            <a:ext cx="0" cy="7920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Text Box 39"/>
          <p:cNvSpPr/>
          <p:nvPr/>
        </p:nvSpPr>
        <p:spPr>
          <a:xfrm>
            <a:off x="8074440" y="488304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5" name="Group 40"/>
          <p:cNvGrpSpPr/>
          <p:nvPr/>
        </p:nvGrpSpPr>
        <p:grpSpPr>
          <a:xfrm>
            <a:off x="3995640" y="3141720"/>
            <a:ext cx="1798560" cy="216000"/>
            <a:chOff x="3995640" y="3141720"/>
            <a:chExt cx="1798560" cy="216000"/>
          </a:xfrm>
        </p:grpSpPr>
        <p:sp>
          <p:nvSpPr>
            <p:cNvPr id="2846" name="Line 41"/>
            <p:cNvSpPr/>
            <p:nvPr/>
          </p:nvSpPr>
          <p:spPr>
            <a:xfrm flipV="1">
              <a:off x="3995640" y="3141720"/>
              <a:ext cx="0" cy="216000"/>
            </a:xfrm>
            <a:prstGeom prst="line">
              <a:avLst/>
            </a:prstGeom>
            <a:ln cap="rnd" w="38160">
              <a:solidFill>
                <a:srgbClr val="ff99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Line 42"/>
            <p:cNvSpPr/>
            <p:nvPr/>
          </p:nvSpPr>
          <p:spPr>
            <a:xfrm>
              <a:off x="3995640" y="3213000"/>
              <a:ext cx="1798560" cy="0"/>
            </a:xfrm>
            <a:prstGeom prst="line">
              <a:avLst/>
            </a:prstGeom>
            <a:ln cap="rnd" w="38160">
              <a:solidFill>
                <a:srgbClr val="ffccff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Text Box 43"/>
          <p:cNvSpPr/>
          <p:nvPr/>
        </p:nvSpPr>
        <p:spPr>
          <a:xfrm>
            <a:off x="58892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被除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9" name="Group 44"/>
          <p:cNvGrpSpPr/>
          <p:nvPr/>
        </p:nvGrpSpPr>
        <p:grpSpPr>
          <a:xfrm>
            <a:off x="5003640" y="4005360"/>
            <a:ext cx="1798560" cy="215640"/>
            <a:chOff x="5003640" y="4005360"/>
            <a:chExt cx="1798560" cy="215640"/>
          </a:xfrm>
        </p:grpSpPr>
        <p:sp>
          <p:nvSpPr>
            <p:cNvPr id="2850" name="Line 45"/>
            <p:cNvSpPr/>
            <p:nvPr/>
          </p:nvSpPr>
          <p:spPr>
            <a:xfrm>
              <a:off x="5003640" y="4005360"/>
              <a:ext cx="0" cy="215640"/>
            </a:xfrm>
            <a:prstGeom prst="line">
              <a:avLst/>
            </a:prstGeom>
            <a:ln cap="rnd" w="38160">
              <a:solidFill>
                <a:srgbClr val="ff99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Line 46"/>
            <p:cNvSpPr/>
            <p:nvPr/>
          </p:nvSpPr>
          <p:spPr>
            <a:xfrm>
              <a:off x="5003640" y="4149720"/>
              <a:ext cx="1798560" cy="0"/>
            </a:xfrm>
            <a:prstGeom prst="line">
              <a:avLst/>
            </a:prstGeom>
            <a:ln cap="rnd" w="38160">
              <a:solidFill>
                <a:srgbClr val="ffccff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2" name="Text Box 47"/>
          <p:cNvSpPr/>
          <p:nvPr/>
        </p:nvSpPr>
        <p:spPr>
          <a:xfrm>
            <a:off x="6854400" y="3908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除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Text Box 48"/>
          <p:cNvSpPr/>
          <p:nvPr/>
        </p:nvSpPr>
        <p:spPr>
          <a:xfrm>
            <a:off x="8167680" y="297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Line 49"/>
          <p:cNvSpPr/>
          <p:nvPr/>
        </p:nvSpPr>
        <p:spPr>
          <a:xfrm flipH="1" flipV="1">
            <a:off x="6370560" y="2900160"/>
            <a:ext cx="432000" cy="431640"/>
          </a:xfrm>
          <a:prstGeom prst="line">
            <a:avLst/>
          </a:prstGeom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Rectangle 50"/>
          <p:cNvSpPr/>
          <p:nvPr/>
        </p:nvSpPr>
        <p:spPr>
          <a:xfrm>
            <a:off x="3778200" y="1819440"/>
            <a:ext cx="4176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比值通常用分数表示，也可以用小数或整数表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6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857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858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9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0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2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2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2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2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2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2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1" dur="500"/>
                                        <p:tgtEl>
                                          <p:spTgt spid="2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2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9" dur="500"/>
                                        <p:tgtEl>
                                          <p:spTgt spid="28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0" dur="250" autoRev="1" fill="hold"/>
                                        <p:tgtEl>
                                          <p:spTgt spid="28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2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500"/>
                            </p:stCondLst>
                            <p:childTnLst>
                              <p:par>
                                <p:cTn id="1078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2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2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5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0" dur="1000" fill="hold"/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2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5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3" dur="500"/>
                                        <p:tgtEl>
                                          <p:spTgt spid="2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1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862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4" name="Group 3"/>
          <p:cNvGrpSpPr/>
          <p:nvPr/>
        </p:nvGrpSpPr>
        <p:grpSpPr>
          <a:xfrm>
            <a:off x="539640" y="4149720"/>
            <a:ext cx="7416720" cy="938160"/>
            <a:chOff x="539640" y="4149720"/>
            <a:chExt cx="7416720" cy="938160"/>
          </a:xfrm>
        </p:grpSpPr>
        <p:sp>
          <p:nvSpPr>
            <p:cNvPr id="2875" name="Rectangle 4"/>
            <p:cNvSpPr/>
            <p:nvPr/>
          </p:nvSpPr>
          <p:spPr>
            <a:xfrm>
              <a:off x="539640" y="4151160"/>
              <a:ext cx="7416720" cy="935280"/>
            </a:xfrm>
            <a:prstGeom prst="rect">
              <a:avLst/>
            </a:prstGeom>
            <a:solidFill>
              <a:srgbClr val="aed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Line 5"/>
            <p:cNvSpPr/>
            <p:nvPr/>
          </p:nvSpPr>
          <p:spPr>
            <a:xfrm>
              <a:off x="539640" y="415116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Line 6"/>
            <p:cNvSpPr/>
            <p:nvPr/>
          </p:nvSpPr>
          <p:spPr>
            <a:xfrm>
              <a:off x="1763640" y="414972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Line 7"/>
            <p:cNvSpPr/>
            <p:nvPr/>
          </p:nvSpPr>
          <p:spPr>
            <a:xfrm>
              <a:off x="3492360" y="414972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Line 8"/>
            <p:cNvSpPr/>
            <p:nvPr/>
          </p:nvSpPr>
          <p:spPr>
            <a:xfrm>
              <a:off x="5364000" y="415116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Line 9"/>
            <p:cNvSpPr/>
            <p:nvPr/>
          </p:nvSpPr>
          <p:spPr>
            <a:xfrm>
              <a:off x="6588000" y="415116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Line 10"/>
            <p:cNvSpPr/>
            <p:nvPr/>
          </p:nvSpPr>
          <p:spPr>
            <a:xfrm>
              <a:off x="7956360" y="415116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Line 11"/>
            <p:cNvSpPr/>
            <p:nvPr/>
          </p:nvSpPr>
          <p:spPr>
            <a:xfrm>
              <a:off x="539640" y="5086440"/>
              <a:ext cx="741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Text Box 12"/>
            <p:cNvSpPr/>
            <p:nvPr/>
          </p:nvSpPr>
          <p:spPr>
            <a:xfrm>
              <a:off x="796320" y="42940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分数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Text Box 13"/>
            <p:cNvSpPr/>
            <p:nvPr/>
          </p:nvSpPr>
          <p:spPr>
            <a:xfrm>
              <a:off x="2236320" y="42940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分子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Text Box 14"/>
            <p:cNvSpPr/>
            <p:nvPr/>
          </p:nvSpPr>
          <p:spPr>
            <a:xfrm>
              <a:off x="3492360" y="4282920"/>
              <a:ext cx="216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分数线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(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－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)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Text Box 15"/>
            <p:cNvSpPr/>
            <p:nvPr/>
          </p:nvSpPr>
          <p:spPr>
            <a:xfrm>
              <a:off x="5693760" y="43513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分母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Text Box 16"/>
            <p:cNvSpPr/>
            <p:nvPr/>
          </p:nvSpPr>
          <p:spPr>
            <a:xfrm>
              <a:off x="6876720" y="43671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分数值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88" name=""/>
          <p:cNvGraphicFramePr/>
          <p:nvPr/>
        </p:nvGraphicFramePr>
        <p:xfrm>
          <a:off x="539640" y="2708280"/>
          <a:ext cx="7416720" cy="2016000"/>
        </p:xfrm>
        <a:graphic>
          <a:graphicData uri="http://schemas.openxmlformats.org/drawingml/2006/table">
            <a:tbl>
              <a:tblPr/>
              <a:tblGrid>
                <a:gridCol w="1224000"/>
                <a:gridCol w="1719360"/>
                <a:gridCol w="1881000"/>
                <a:gridCol w="1224000"/>
                <a:gridCol w="136836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比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ed8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前项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ed8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比号（∶）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ed8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后项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ed8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比值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ed876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除法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ed8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被除数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ed8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除号（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÷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ed8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除数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ed8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商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ed876"/>
                    </a:solidFill>
                  </a:tcPr>
                </a:tc>
              </a:tr>
            </a:tbl>
          </a:graphicData>
        </a:graphic>
      </p:graphicFrame>
      <p:sp>
        <p:nvSpPr>
          <p:cNvPr id="2889" name="Oval 40"/>
          <p:cNvSpPr/>
          <p:nvPr/>
        </p:nvSpPr>
        <p:spPr>
          <a:xfrm>
            <a:off x="5364000" y="2730600"/>
            <a:ext cx="1079640" cy="228276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Line 41"/>
          <p:cNvSpPr/>
          <p:nvPr/>
        </p:nvSpPr>
        <p:spPr>
          <a:xfrm flipV="1">
            <a:off x="6013440" y="236664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Text Box 42"/>
          <p:cNvSpPr/>
          <p:nvPr/>
        </p:nvSpPr>
        <p:spPr>
          <a:xfrm>
            <a:off x="5266800" y="1960560"/>
            <a:ext cx="121680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可以是</a:t>
            </a:r>
            <a:r>
              <a:rPr b="1" lang="en-US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0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吗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Oval 43"/>
          <p:cNvSpPr/>
          <p:nvPr/>
        </p:nvSpPr>
        <p:spPr>
          <a:xfrm>
            <a:off x="6588000" y="2727360"/>
            <a:ext cx="1297080" cy="22860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Line 44"/>
          <p:cNvSpPr/>
          <p:nvPr/>
        </p:nvSpPr>
        <p:spPr>
          <a:xfrm flipV="1">
            <a:off x="7380360" y="234108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Text Box 45"/>
          <p:cNvSpPr/>
          <p:nvPr/>
        </p:nvSpPr>
        <p:spPr>
          <a:xfrm>
            <a:off x="7171560" y="1960560"/>
            <a:ext cx="124740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可以是哪些数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Text Box 46"/>
          <p:cNvSpPr/>
          <p:nvPr/>
        </p:nvSpPr>
        <p:spPr>
          <a:xfrm>
            <a:off x="8295840" y="3301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隶书"/>
              </a:rPr>
              <a:t>分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Text Box 47"/>
          <p:cNvSpPr/>
          <p:nvPr/>
        </p:nvSpPr>
        <p:spPr>
          <a:xfrm>
            <a:off x="8172360" y="35892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隶书"/>
              </a:rPr>
              <a:t>小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Text Box 48"/>
          <p:cNvSpPr/>
          <p:nvPr/>
        </p:nvSpPr>
        <p:spPr>
          <a:xfrm>
            <a:off x="8295840" y="387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隶书"/>
              </a:rPr>
              <a:t>整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AutoShape 49"/>
          <p:cNvSpPr/>
          <p:nvPr/>
        </p:nvSpPr>
        <p:spPr>
          <a:xfrm>
            <a:off x="7956720" y="2800440"/>
            <a:ext cx="360360" cy="2141280"/>
          </a:xfrm>
          <a:custGeom>
            <a:avLst/>
            <a:gdLst>
              <a:gd name="textAreaLeft" fmla="*/ 0 w 360360"/>
              <a:gd name="textAreaRight" fmla="*/ 129960 w 360360"/>
              <a:gd name="textAreaTop" fmla="*/ 55800 h 2141280"/>
              <a:gd name="textAreaBottom" fmla="*/ 2085480 h 21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Text Box 50"/>
          <p:cNvSpPr/>
          <p:nvPr/>
        </p:nvSpPr>
        <p:spPr>
          <a:xfrm>
            <a:off x="1919160" y="1773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比和除法的关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0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901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902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3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4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0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28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0" dur="250" autoRev="1" fill="hold"/>
                                        <p:tgtEl>
                                          <p:spTgt spid="28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2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8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500"/>
                                        <p:tgtEl>
                                          <p:spTgt spid="2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159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0" dur="5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1" dur="250" autoRev="1" fill="hold"/>
                                        <p:tgtEl>
                                          <p:spTgt spid="28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5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9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176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7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8" dur="250" autoRev="1" fill="hold"/>
                                        <p:tgtEl>
                                          <p:spTgt spid="28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2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6" dur="5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500"/>
                                        <p:tgtEl>
                                          <p:spTgt spid="2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5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2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5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906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8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919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920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1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2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练习巩固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3" name="Text Box 3"/>
          <p:cNvSpPr/>
          <p:nvPr/>
        </p:nvSpPr>
        <p:spPr>
          <a:xfrm>
            <a:off x="611280" y="112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练一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4" name="对象 16404" descr=""/>
          <p:cNvPicPr/>
          <p:nvPr/>
        </p:nvPicPr>
        <p:blipFill>
          <a:blip r:embed="rId2"/>
          <a:stretch/>
        </p:blipFill>
        <p:spPr>
          <a:xfrm>
            <a:off x="1063800" y="2133720"/>
            <a:ext cx="1347480" cy="963360"/>
          </a:xfrm>
          <a:prstGeom prst="rect">
            <a:avLst/>
          </a:prstGeom>
          <a:ln w="0">
            <a:noFill/>
          </a:ln>
        </p:spPr>
      </p:pic>
      <p:pic>
        <p:nvPicPr>
          <p:cNvPr id="2925" name="对象 16405" descr=""/>
          <p:cNvPicPr/>
          <p:nvPr/>
        </p:nvPicPr>
        <p:blipFill>
          <a:blip r:embed="rId3"/>
          <a:stretch/>
        </p:blipFill>
        <p:spPr>
          <a:xfrm>
            <a:off x="3511440" y="2057400"/>
            <a:ext cx="1190880" cy="1049400"/>
          </a:xfrm>
          <a:prstGeom prst="rect">
            <a:avLst/>
          </a:prstGeom>
          <a:ln w="0">
            <a:noFill/>
          </a:ln>
        </p:spPr>
      </p:pic>
      <p:pic>
        <p:nvPicPr>
          <p:cNvPr id="2926" name="对象 16406" descr=""/>
          <p:cNvPicPr/>
          <p:nvPr/>
        </p:nvPicPr>
        <p:blipFill>
          <a:blip r:embed="rId4"/>
          <a:stretch/>
        </p:blipFill>
        <p:spPr>
          <a:xfrm>
            <a:off x="5783400" y="2133720"/>
            <a:ext cx="1236600" cy="963360"/>
          </a:xfrm>
          <a:prstGeom prst="rect">
            <a:avLst/>
          </a:prstGeom>
          <a:ln w="0">
            <a:noFill/>
          </a:ln>
        </p:spPr>
      </p:pic>
      <p:pic>
        <p:nvPicPr>
          <p:cNvPr id="2927" name="对象 16407" descr=""/>
          <p:cNvPicPr/>
          <p:nvPr/>
        </p:nvPicPr>
        <p:blipFill>
          <a:blip r:embed="rId5"/>
          <a:stretch/>
        </p:blipFill>
        <p:spPr>
          <a:xfrm>
            <a:off x="1158840" y="3429000"/>
            <a:ext cx="1262160" cy="1012680"/>
          </a:xfrm>
          <a:prstGeom prst="rect">
            <a:avLst/>
          </a:prstGeom>
          <a:ln w="0">
            <a:noFill/>
          </a:ln>
        </p:spPr>
      </p:pic>
      <p:pic>
        <p:nvPicPr>
          <p:cNvPr id="2928" name="对象 16408" descr=""/>
          <p:cNvPicPr/>
          <p:nvPr/>
        </p:nvPicPr>
        <p:blipFill>
          <a:blip r:embed="rId6"/>
          <a:stretch/>
        </p:blipFill>
        <p:spPr>
          <a:xfrm>
            <a:off x="3471840" y="3490920"/>
            <a:ext cx="1171440" cy="961920"/>
          </a:xfrm>
          <a:prstGeom prst="rect">
            <a:avLst/>
          </a:prstGeom>
          <a:ln w="0">
            <a:noFill/>
          </a:ln>
        </p:spPr>
      </p:pic>
      <p:pic>
        <p:nvPicPr>
          <p:cNvPr id="2929" name="对象 16409" descr=""/>
          <p:cNvPicPr/>
          <p:nvPr/>
        </p:nvPicPr>
        <p:blipFill>
          <a:blip r:embed="rId7"/>
          <a:stretch/>
        </p:blipFill>
        <p:spPr>
          <a:xfrm>
            <a:off x="5751360" y="3500280"/>
            <a:ext cx="1495440" cy="944640"/>
          </a:xfrm>
          <a:prstGeom prst="rect">
            <a:avLst/>
          </a:prstGeom>
          <a:ln w="0">
            <a:noFill/>
          </a:ln>
        </p:spPr>
      </p:pic>
      <p:pic>
        <p:nvPicPr>
          <p:cNvPr id="2930" name="对象 16410" descr=""/>
          <p:cNvPicPr/>
          <p:nvPr/>
        </p:nvPicPr>
        <p:blipFill>
          <a:blip r:embed="rId8"/>
          <a:stretch/>
        </p:blipFill>
        <p:spPr>
          <a:xfrm>
            <a:off x="1123920" y="4869000"/>
            <a:ext cx="1422360" cy="1025280"/>
          </a:xfrm>
          <a:prstGeom prst="rect">
            <a:avLst/>
          </a:prstGeom>
          <a:ln w="0">
            <a:noFill/>
          </a:ln>
        </p:spPr>
      </p:pic>
      <p:pic>
        <p:nvPicPr>
          <p:cNvPr id="2931" name="对象 16411" descr=""/>
          <p:cNvPicPr/>
          <p:nvPr/>
        </p:nvPicPr>
        <p:blipFill>
          <a:blip r:embed="rId9"/>
          <a:stretch/>
        </p:blipFill>
        <p:spPr>
          <a:xfrm>
            <a:off x="3460680" y="4941720"/>
            <a:ext cx="1339920" cy="944640"/>
          </a:xfrm>
          <a:prstGeom prst="rect">
            <a:avLst/>
          </a:prstGeom>
          <a:ln w="0">
            <a:noFill/>
          </a:ln>
        </p:spPr>
      </p:pic>
      <p:pic>
        <p:nvPicPr>
          <p:cNvPr id="2932" name="对象 16412" descr=""/>
          <p:cNvPicPr/>
          <p:nvPr/>
        </p:nvPicPr>
        <p:blipFill>
          <a:blip r:embed="rId10">
            <a:alphaModFix amt="60000"/>
          </a:blip>
          <a:stretch/>
        </p:blipFill>
        <p:spPr>
          <a:xfrm>
            <a:off x="2411280" y="2421000"/>
            <a:ext cx="406440" cy="407880"/>
          </a:xfrm>
          <a:prstGeom prst="rect">
            <a:avLst/>
          </a:prstGeom>
          <a:ln w="0">
            <a:noFill/>
          </a:ln>
        </p:spPr>
      </p:pic>
      <p:pic>
        <p:nvPicPr>
          <p:cNvPr id="2933" name="对象 16413" descr=""/>
          <p:cNvPicPr/>
          <p:nvPr/>
        </p:nvPicPr>
        <p:blipFill>
          <a:blip r:embed="rId11">
            <a:alphaModFix amt="80000"/>
          </a:blip>
          <a:stretch/>
        </p:blipFill>
        <p:spPr>
          <a:xfrm>
            <a:off x="4643280" y="2133720"/>
            <a:ext cx="468360" cy="904680"/>
          </a:xfrm>
          <a:prstGeom prst="rect">
            <a:avLst/>
          </a:prstGeom>
          <a:ln w="0">
            <a:noFill/>
          </a:ln>
        </p:spPr>
      </p:pic>
      <p:pic>
        <p:nvPicPr>
          <p:cNvPr id="2934" name="对象 16414" descr=""/>
          <p:cNvPicPr/>
          <p:nvPr/>
        </p:nvPicPr>
        <p:blipFill>
          <a:blip r:embed="rId12">
            <a:alphaModFix amt="85000"/>
          </a:blip>
          <a:stretch/>
        </p:blipFill>
        <p:spPr>
          <a:xfrm>
            <a:off x="2484360" y="5157720"/>
            <a:ext cx="466920" cy="407880"/>
          </a:xfrm>
          <a:prstGeom prst="rect">
            <a:avLst/>
          </a:prstGeom>
          <a:ln w="0">
            <a:noFill/>
          </a:ln>
        </p:spPr>
      </p:pic>
      <p:pic>
        <p:nvPicPr>
          <p:cNvPr id="2935" name="对象 16415" descr=""/>
          <p:cNvPicPr/>
          <p:nvPr/>
        </p:nvPicPr>
        <p:blipFill>
          <a:blip r:embed="rId13">
            <a:alphaModFix amt="85000"/>
          </a:blip>
          <a:stretch/>
        </p:blipFill>
        <p:spPr>
          <a:xfrm>
            <a:off x="7020000" y="2349360"/>
            <a:ext cx="263520" cy="408240"/>
          </a:xfrm>
          <a:prstGeom prst="rect">
            <a:avLst/>
          </a:prstGeom>
          <a:ln w="0">
            <a:noFill/>
          </a:ln>
        </p:spPr>
      </p:pic>
      <p:pic>
        <p:nvPicPr>
          <p:cNvPr id="2936" name="对象 16416" descr=""/>
          <p:cNvPicPr/>
          <p:nvPr/>
        </p:nvPicPr>
        <p:blipFill>
          <a:blip r:embed="rId14"/>
          <a:stretch/>
        </p:blipFill>
        <p:spPr>
          <a:xfrm>
            <a:off x="2411280" y="3502080"/>
            <a:ext cx="351000" cy="904680"/>
          </a:xfrm>
          <a:prstGeom prst="rect">
            <a:avLst/>
          </a:prstGeom>
          <a:ln w="0">
            <a:noFill/>
          </a:ln>
        </p:spPr>
      </p:pic>
      <p:pic>
        <p:nvPicPr>
          <p:cNvPr id="2937" name="对象 16417" descr=""/>
          <p:cNvPicPr/>
          <p:nvPr/>
        </p:nvPicPr>
        <p:blipFill>
          <a:blip r:embed="rId15">
            <a:alphaModFix amt="60000"/>
          </a:blip>
          <a:stretch/>
        </p:blipFill>
        <p:spPr>
          <a:xfrm>
            <a:off x="4643280" y="3502080"/>
            <a:ext cx="468360" cy="904680"/>
          </a:xfrm>
          <a:prstGeom prst="rect">
            <a:avLst/>
          </a:prstGeom>
          <a:ln w="0">
            <a:noFill/>
          </a:ln>
        </p:spPr>
      </p:pic>
      <p:pic>
        <p:nvPicPr>
          <p:cNvPr id="2938" name="对象 16418" descr=""/>
          <p:cNvPicPr/>
          <p:nvPr/>
        </p:nvPicPr>
        <p:blipFill>
          <a:blip r:embed="rId16">
            <a:alphaModFix amt="80000"/>
          </a:blip>
          <a:stretch/>
        </p:blipFill>
        <p:spPr>
          <a:xfrm>
            <a:off x="7236000" y="3502080"/>
            <a:ext cx="350640" cy="904680"/>
          </a:xfrm>
          <a:prstGeom prst="rect">
            <a:avLst/>
          </a:prstGeom>
          <a:ln w="0">
            <a:noFill/>
          </a:ln>
        </p:spPr>
      </p:pic>
      <p:pic>
        <p:nvPicPr>
          <p:cNvPr id="2939" name="对象 16419" descr=""/>
          <p:cNvPicPr/>
          <p:nvPr/>
        </p:nvPicPr>
        <p:blipFill>
          <a:blip r:embed="rId17"/>
          <a:stretch/>
        </p:blipFill>
        <p:spPr>
          <a:xfrm>
            <a:off x="4859280" y="4941720"/>
            <a:ext cx="35100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29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2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2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29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29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1000"/>
                                        <p:tgtEl>
                                          <p:spTgt spid="2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0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941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3" name="Text Box 3"/>
          <p:cNvSpPr/>
          <p:nvPr/>
        </p:nvSpPr>
        <p:spPr>
          <a:xfrm>
            <a:off x="2072160" y="3736800"/>
            <a:ext cx="2543760" cy="5814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4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  <a:ea typeface="隶书"/>
              </a:rPr>
              <a:t>×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  <a:ea typeface="隶书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5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  <a:ea typeface="隶书"/>
              </a:rPr>
              <a:t>×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AutoShape 4"/>
          <p:cNvSpPr/>
          <p:nvPr/>
        </p:nvSpPr>
        <p:spPr>
          <a:xfrm>
            <a:off x="3801960" y="3139920"/>
            <a:ext cx="287280" cy="648000"/>
          </a:xfrm>
          <a:prstGeom prst="downArrow">
            <a:avLst>
              <a:gd name="adj1" fmla="val 50000"/>
              <a:gd name="adj2" fmla="val 5638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Rectangle 5"/>
          <p:cNvSpPr/>
          <p:nvPr/>
        </p:nvSpPr>
        <p:spPr>
          <a:xfrm>
            <a:off x="3225960" y="2421000"/>
            <a:ext cx="1584000" cy="7189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Rectangle 6"/>
          <p:cNvSpPr/>
          <p:nvPr/>
        </p:nvSpPr>
        <p:spPr>
          <a:xfrm>
            <a:off x="5241960" y="2421000"/>
            <a:ext cx="1440000" cy="7189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Rectangle 12"/>
          <p:cNvSpPr/>
          <p:nvPr/>
        </p:nvSpPr>
        <p:spPr>
          <a:xfrm>
            <a:off x="1637280" y="2492280"/>
            <a:ext cx="52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5 = 16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20 = 40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5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Text Box 13"/>
          <p:cNvSpPr/>
          <p:nvPr/>
        </p:nvSpPr>
        <p:spPr>
          <a:xfrm>
            <a:off x="5023800" y="3763800"/>
            <a:ext cx="2882160" cy="5814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4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  <a:ea typeface="隶书"/>
              </a:rPr>
              <a:t>×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  <a:ea typeface="隶书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5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  <a:ea typeface="隶书"/>
              </a:rPr>
              <a:t>×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AutoShape 14"/>
          <p:cNvSpPr/>
          <p:nvPr/>
        </p:nvSpPr>
        <p:spPr>
          <a:xfrm>
            <a:off x="5889600" y="3133800"/>
            <a:ext cx="287280" cy="647640"/>
          </a:xfrm>
          <a:prstGeom prst="downArrow">
            <a:avLst>
              <a:gd name="adj1" fmla="val 50000"/>
              <a:gd name="adj2" fmla="val 5634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Text Box 11"/>
          <p:cNvSpPr/>
          <p:nvPr/>
        </p:nvSpPr>
        <p:spPr>
          <a:xfrm>
            <a:off x="1619280" y="1557360"/>
            <a:ext cx="266544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比的基本性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Text Box 10"/>
          <p:cNvSpPr/>
          <p:nvPr/>
        </p:nvSpPr>
        <p:spPr>
          <a:xfrm>
            <a:off x="1476360" y="4797360"/>
            <a:ext cx="6165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的前项和后项同时乘或除以相同的数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外），比值不变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2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963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964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5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6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2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7" dur="500"/>
                                        <p:tgtEl>
                                          <p:spTgt spid="2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500"/>
                                        <p:tgtEl>
                                          <p:spTgt spid="2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500"/>
                                        <p:tgtEl>
                                          <p:spTgt spid="2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8" dur="500"/>
                                        <p:tgtEl>
                                          <p:spTgt spid="2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7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968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0" name="Rectangle 3"/>
          <p:cNvSpPr/>
          <p:nvPr/>
        </p:nvSpPr>
        <p:spPr>
          <a:xfrm>
            <a:off x="611280" y="202320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利用商不变性质，我们可以进行除法的简算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根据分数的基本性质，我们可以把分数化成最简分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Text Box 4"/>
          <p:cNvSpPr/>
          <p:nvPr/>
        </p:nvSpPr>
        <p:spPr>
          <a:xfrm>
            <a:off x="1973160" y="4275000"/>
            <a:ext cx="8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2" name="Group 5"/>
          <p:cNvGrpSpPr/>
          <p:nvPr/>
        </p:nvGrpSpPr>
        <p:grpSpPr>
          <a:xfrm>
            <a:off x="3771720" y="4222800"/>
            <a:ext cx="2001600" cy="512280"/>
            <a:chOff x="3771720" y="4222800"/>
            <a:chExt cx="2001600" cy="512280"/>
          </a:xfrm>
        </p:grpSpPr>
        <p:sp>
          <p:nvSpPr>
            <p:cNvPr id="2983" name="Rectangle 6"/>
            <p:cNvSpPr/>
            <p:nvPr/>
          </p:nvSpPr>
          <p:spPr>
            <a:xfrm>
              <a:off x="3771720" y="4222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＝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Text Box 7"/>
            <p:cNvSpPr/>
            <p:nvPr/>
          </p:nvSpPr>
          <p:spPr>
            <a:xfrm>
              <a:off x="4925160" y="427536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5" name="Group 8"/>
          <p:cNvGrpSpPr/>
          <p:nvPr/>
        </p:nvGrpSpPr>
        <p:grpSpPr>
          <a:xfrm>
            <a:off x="1941120" y="4924440"/>
            <a:ext cx="863640" cy="794520"/>
            <a:chOff x="1941120" y="4924440"/>
            <a:chExt cx="863640" cy="794520"/>
          </a:xfrm>
        </p:grpSpPr>
        <p:sp>
          <p:nvSpPr>
            <p:cNvPr id="2986" name="AutoShape 9"/>
            <p:cNvSpPr/>
            <p:nvPr/>
          </p:nvSpPr>
          <p:spPr>
            <a:xfrm rot="5400000">
              <a:off x="2300760" y="4564800"/>
              <a:ext cx="144360" cy="863640"/>
            </a:xfrm>
            <a:custGeom>
              <a:avLst/>
              <a:gdLst>
                <a:gd name="textAreaLeft" fmla="*/ 0 w 144360"/>
                <a:gd name="textAreaRight" fmla="*/ 101160 w 144360"/>
                <a:gd name="textAreaTop" fmla="*/ 36000 h 863640"/>
                <a:gd name="textAreaBottom" fmla="*/ 828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Line 10"/>
            <p:cNvSpPr/>
            <p:nvPr/>
          </p:nvSpPr>
          <p:spPr>
            <a:xfrm>
              <a:off x="2376360" y="5067360"/>
              <a:ext cx="0" cy="21744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Text Box 11"/>
            <p:cNvSpPr/>
            <p:nvPr/>
          </p:nvSpPr>
          <p:spPr>
            <a:xfrm>
              <a:off x="2137320" y="5259240"/>
              <a:ext cx="5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前项、后项同时除以</a:t>
              </a:r>
              <a:r>
                <a:rPr b="1" lang="en-US" sz="24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9" name="Rectangle 12"/>
          <p:cNvSpPr/>
          <p:nvPr/>
        </p:nvSpPr>
        <p:spPr>
          <a:xfrm>
            <a:off x="539640" y="293724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宋体"/>
              </a:rPr>
              <a:t>应用比的基本性质，我们可以把比化成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宋体"/>
              </a:rPr>
              <a:t>最简单的整数比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Text Box 13"/>
          <p:cNvSpPr/>
          <p:nvPr/>
        </p:nvSpPr>
        <p:spPr>
          <a:xfrm>
            <a:off x="4932360" y="42768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  <a:ea typeface="隶书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Text Box 14"/>
          <p:cNvSpPr/>
          <p:nvPr/>
        </p:nvSpPr>
        <p:spPr>
          <a:xfrm>
            <a:off x="5435640" y="42768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  <a:ea typeface="隶书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2" name="Group 15"/>
          <p:cNvGrpSpPr/>
          <p:nvPr/>
        </p:nvGrpSpPr>
        <p:grpSpPr>
          <a:xfrm>
            <a:off x="4282920" y="4924440"/>
            <a:ext cx="2881080" cy="794520"/>
            <a:chOff x="4282920" y="4924440"/>
            <a:chExt cx="2881080" cy="794520"/>
          </a:xfrm>
        </p:grpSpPr>
        <p:sp>
          <p:nvSpPr>
            <p:cNvPr id="2993" name="AutoShape 16"/>
            <p:cNvSpPr/>
            <p:nvPr/>
          </p:nvSpPr>
          <p:spPr>
            <a:xfrm rot="5400000">
              <a:off x="5523480" y="4503240"/>
              <a:ext cx="144360" cy="986760"/>
            </a:xfrm>
            <a:custGeom>
              <a:avLst/>
              <a:gdLst>
                <a:gd name="textAreaLeft" fmla="*/ 0 w 144360"/>
                <a:gd name="textAreaRight" fmla="*/ 101160 w 144360"/>
                <a:gd name="textAreaTop" fmla="*/ 41040 h 986760"/>
                <a:gd name="textAreaBottom" fmla="*/ 945720 h 98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Line 17"/>
            <p:cNvSpPr/>
            <p:nvPr/>
          </p:nvSpPr>
          <p:spPr>
            <a:xfrm>
              <a:off x="5599800" y="5067360"/>
              <a:ext cx="0" cy="21744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Text Box 18"/>
            <p:cNvSpPr/>
            <p:nvPr/>
          </p:nvSpPr>
          <p:spPr>
            <a:xfrm>
              <a:off x="4282920" y="5259240"/>
              <a:ext cx="288108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前、后项必须是整数，而且互质</a:t>
              </a:r>
              <a:r>
                <a:rPr b="1" lang="en-US" sz="2400" spc="-1" strike="noStrike">
                  <a:solidFill>
                    <a:srgbClr val="0000ff"/>
                  </a:solidFill>
                  <a:latin typeface="仿宋_GB2312"/>
                  <a:ea typeface="仿宋_GB2312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6" name="Line 19"/>
          <p:cNvSpPr/>
          <p:nvPr/>
        </p:nvSpPr>
        <p:spPr>
          <a:xfrm flipV="1">
            <a:off x="5724360" y="3425400"/>
            <a:ext cx="1800360" cy="8650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7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998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999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0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1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fill="hold">
                      <p:stCondLst>
                        <p:cond delay="0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5" dur="2000"/>
                                        <p:tgtEl>
                                          <p:spTgt spid="2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0" dur="500"/>
                                        <p:tgtEl>
                                          <p:spTgt spid="2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0" dur="500"/>
                                        <p:tgtEl>
                                          <p:spTgt spid="2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"/>
                                        <p:tgtEl>
                                          <p:spTgt spid="2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10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8" dur="1000" fill="hold"/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0" dur="1000" fill="hold"/>
                                        <p:tgtEl>
                                          <p:spTgt spid="2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5" dur="500"/>
                                        <p:tgtEl>
                                          <p:spTgt spid="2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2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3003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5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3016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3017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8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9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练习巩固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0" name="Rectangle 3"/>
          <p:cNvSpPr/>
          <p:nvPr/>
        </p:nvSpPr>
        <p:spPr>
          <a:xfrm>
            <a:off x="1505160" y="2202840"/>
            <a:ext cx="6064920" cy="35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六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班有男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，女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男生是女生的几分之几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女生是男生的几分之几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男生比女生少几分之几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女生比男生多几分之几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Text Box 4"/>
          <p:cNvSpPr/>
          <p:nvPr/>
        </p:nvSpPr>
        <p:spPr>
          <a:xfrm>
            <a:off x="5967360" y="284004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15÷20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Text Box 5"/>
          <p:cNvSpPr/>
          <p:nvPr/>
        </p:nvSpPr>
        <p:spPr>
          <a:xfrm>
            <a:off x="5967360" y="343044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0÷15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Text Box 6"/>
          <p:cNvSpPr/>
          <p:nvPr/>
        </p:nvSpPr>
        <p:spPr>
          <a:xfrm>
            <a:off x="5598720" y="4064040"/>
            <a:ext cx="25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0-15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÷20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Text Box 7"/>
          <p:cNvSpPr/>
          <p:nvPr/>
        </p:nvSpPr>
        <p:spPr>
          <a:xfrm>
            <a:off x="5598720" y="4654440"/>
            <a:ext cx="25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0-15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÷15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Rectangle 2"/>
          <p:cNvSpPr/>
          <p:nvPr/>
        </p:nvSpPr>
        <p:spPr>
          <a:xfrm>
            <a:off x="684360" y="1413000"/>
            <a:ext cx="5111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应用分数乘除法解决问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6" dur="indefinite" restart="never" nodeType="tmRoot">
          <p:childTnLst>
            <p:seq>
              <p:cTn id="1477" dur="indefinite" nodeType="mainSeq">
                <p:childTnLst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2" dur="500"/>
                                        <p:tgtEl>
                                          <p:spTgt spid="3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7" dur="500"/>
                                        <p:tgtEl>
                                          <p:spTgt spid="3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2" dur="5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7" dur="500"/>
                                        <p:tgtEl>
                                          <p:spTgt spid="3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6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3027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9" name="Text Box 3"/>
          <p:cNvSpPr/>
          <p:nvPr/>
        </p:nvSpPr>
        <p:spPr>
          <a:xfrm>
            <a:off x="2309760" y="155736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看谁先找到题中的单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Rectangle 7"/>
          <p:cNvSpPr/>
          <p:nvPr/>
        </p:nvSpPr>
        <p:spPr>
          <a:xfrm>
            <a:off x="922320" y="2207880"/>
            <a:ext cx="64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小牛头数是大牛的    。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1" name="Group 8"/>
          <p:cNvGrpSpPr/>
          <p:nvPr/>
        </p:nvGrpSpPr>
        <p:grpSpPr>
          <a:xfrm>
            <a:off x="5651640" y="2060640"/>
            <a:ext cx="431640" cy="894960"/>
            <a:chOff x="5651640" y="2060640"/>
            <a:chExt cx="431640" cy="894960"/>
          </a:xfrm>
        </p:grpSpPr>
        <p:sp>
          <p:nvSpPr>
            <p:cNvPr id="3042" name="Line 9"/>
            <p:cNvSpPr/>
            <p:nvPr/>
          </p:nvSpPr>
          <p:spPr>
            <a:xfrm>
              <a:off x="5651640" y="250632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Text Box 10"/>
            <p:cNvSpPr/>
            <p:nvPr/>
          </p:nvSpPr>
          <p:spPr>
            <a:xfrm>
              <a:off x="5675760" y="2060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Text Box 11"/>
            <p:cNvSpPr/>
            <p:nvPr/>
          </p:nvSpPr>
          <p:spPr>
            <a:xfrm>
              <a:off x="5679000" y="2435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6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5" name="Group 23"/>
          <p:cNvGrpSpPr/>
          <p:nvPr/>
        </p:nvGrpSpPr>
        <p:grpSpPr>
          <a:xfrm>
            <a:off x="900000" y="3975120"/>
            <a:ext cx="7032600" cy="895320"/>
            <a:chOff x="900000" y="3975120"/>
            <a:chExt cx="7032600" cy="895320"/>
          </a:xfrm>
        </p:grpSpPr>
        <p:sp>
          <p:nvSpPr>
            <p:cNvPr id="3046" name="Rectangle 25"/>
            <p:cNvSpPr/>
            <p:nvPr/>
          </p:nvSpPr>
          <p:spPr>
            <a:xfrm>
              <a:off x="900000" y="4101840"/>
              <a:ext cx="703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女生人数的     相当于男生。 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7" name="Group 26"/>
            <p:cNvGrpSpPr/>
            <p:nvPr/>
          </p:nvGrpSpPr>
          <p:grpSpPr>
            <a:xfrm>
              <a:off x="4476600" y="3975120"/>
              <a:ext cx="431640" cy="895320"/>
              <a:chOff x="4476600" y="3975120"/>
              <a:chExt cx="431640" cy="895320"/>
            </a:xfrm>
          </p:grpSpPr>
          <p:sp>
            <p:nvSpPr>
              <p:cNvPr id="3048" name="Line 27"/>
              <p:cNvSpPr/>
              <p:nvPr/>
            </p:nvSpPr>
            <p:spPr>
              <a:xfrm>
                <a:off x="4476600" y="4421160"/>
                <a:ext cx="431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Text Box 28"/>
              <p:cNvSpPr/>
              <p:nvPr/>
            </p:nvSpPr>
            <p:spPr>
              <a:xfrm>
                <a:off x="4500720" y="3975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3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Text Box 29"/>
              <p:cNvSpPr/>
              <p:nvPr/>
            </p:nvSpPr>
            <p:spPr>
              <a:xfrm>
                <a:off x="4503960" y="43498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4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51" name="Group 14"/>
          <p:cNvGrpSpPr/>
          <p:nvPr/>
        </p:nvGrpSpPr>
        <p:grpSpPr>
          <a:xfrm>
            <a:off x="900000" y="2967120"/>
            <a:ext cx="6458040" cy="894960"/>
            <a:chOff x="900000" y="2967120"/>
            <a:chExt cx="6458040" cy="894960"/>
          </a:xfrm>
        </p:grpSpPr>
        <p:sp>
          <p:nvSpPr>
            <p:cNvPr id="3052" name="Rectangle 16"/>
            <p:cNvSpPr/>
            <p:nvPr/>
          </p:nvSpPr>
          <p:spPr>
            <a:xfrm>
              <a:off x="900000" y="3123360"/>
              <a:ext cx="6458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计划产量是实际的    。 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3" name="Group 17"/>
            <p:cNvGrpSpPr/>
            <p:nvPr/>
          </p:nvGrpSpPr>
          <p:grpSpPr>
            <a:xfrm>
              <a:off x="5558040" y="2967120"/>
              <a:ext cx="577080" cy="894960"/>
              <a:chOff x="5558040" y="2967120"/>
              <a:chExt cx="577080" cy="894960"/>
            </a:xfrm>
          </p:grpSpPr>
          <p:sp>
            <p:nvSpPr>
              <p:cNvPr id="3054" name="Line 18"/>
              <p:cNvSpPr/>
              <p:nvPr/>
            </p:nvSpPr>
            <p:spPr>
              <a:xfrm>
                <a:off x="5628960" y="3412800"/>
                <a:ext cx="43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Text Box 19"/>
              <p:cNvSpPr/>
              <p:nvPr/>
            </p:nvSpPr>
            <p:spPr>
              <a:xfrm>
                <a:off x="5653440" y="2967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9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Text Box 20"/>
              <p:cNvSpPr/>
              <p:nvPr/>
            </p:nvSpPr>
            <p:spPr>
              <a:xfrm>
                <a:off x="5558040" y="3341520"/>
                <a:ext cx="57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10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57" name="Group 32"/>
          <p:cNvGrpSpPr/>
          <p:nvPr/>
        </p:nvGrpSpPr>
        <p:grpSpPr>
          <a:xfrm>
            <a:off x="900000" y="4838760"/>
            <a:ext cx="6458040" cy="895320"/>
            <a:chOff x="900000" y="4838760"/>
            <a:chExt cx="6458040" cy="895320"/>
          </a:xfrm>
        </p:grpSpPr>
        <p:sp>
          <p:nvSpPr>
            <p:cNvPr id="3058" name="Rectangle 34"/>
            <p:cNvSpPr/>
            <p:nvPr/>
          </p:nvSpPr>
          <p:spPr>
            <a:xfrm>
              <a:off x="900000" y="4965480"/>
              <a:ext cx="6458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鹅的只数是鸭的    。 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9" name="Group 35"/>
            <p:cNvGrpSpPr/>
            <p:nvPr/>
          </p:nvGrpSpPr>
          <p:grpSpPr>
            <a:xfrm>
              <a:off x="5268960" y="4838760"/>
              <a:ext cx="431640" cy="895320"/>
              <a:chOff x="5268960" y="4838760"/>
              <a:chExt cx="431640" cy="895320"/>
            </a:xfrm>
          </p:grpSpPr>
          <p:sp>
            <p:nvSpPr>
              <p:cNvPr id="3060" name="Line 36"/>
              <p:cNvSpPr/>
              <p:nvPr/>
            </p:nvSpPr>
            <p:spPr>
              <a:xfrm>
                <a:off x="5268960" y="5284800"/>
                <a:ext cx="431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Text Box 37"/>
              <p:cNvSpPr/>
              <p:nvPr/>
            </p:nvSpPr>
            <p:spPr>
              <a:xfrm>
                <a:off x="5293080" y="48387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2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Text Box 38"/>
              <p:cNvSpPr/>
              <p:nvPr/>
            </p:nvSpPr>
            <p:spPr>
              <a:xfrm>
                <a:off x="5296320" y="52135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5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63" name="矩形 58"/>
          <p:cNvSpPr/>
          <p:nvPr/>
        </p:nvSpPr>
        <p:spPr>
          <a:xfrm>
            <a:off x="4427640" y="2205000"/>
            <a:ext cx="865080" cy="647640"/>
          </a:xfrm>
          <a:prstGeom prst="rect">
            <a:avLst/>
          </a:prstGeom>
          <a:noFill/>
          <a:ln w="255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矩形 59"/>
          <p:cNvSpPr/>
          <p:nvPr/>
        </p:nvSpPr>
        <p:spPr>
          <a:xfrm>
            <a:off x="4356000" y="3141720"/>
            <a:ext cx="863640" cy="647640"/>
          </a:xfrm>
          <a:prstGeom prst="rect">
            <a:avLst/>
          </a:prstGeom>
          <a:noFill/>
          <a:ln w="255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矩形 60"/>
          <p:cNvSpPr/>
          <p:nvPr/>
        </p:nvSpPr>
        <p:spPr>
          <a:xfrm>
            <a:off x="2340000" y="4076640"/>
            <a:ext cx="1655640" cy="647640"/>
          </a:xfrm>
          <a:prstGeom prst="rect">
            <a:avLst/>
          </a:prstGeom>
          <a:noFill/>
          <a:ln w="255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矩形 61"/>
          <p:cNvSpPr/>
          <p:nvPr/>
        </p:nvSpPr>
        <p:spPr>
          <a:xfrm>
            <a:off x="4356000" y="4941720"/>
            <a:ext cx="503280" cy="648000"/>
          </a:xfrm>
          <a:prstGeom prst="rect">
            <a:avLst/>
          </a:prstGeom>
          <a:noFill/>
          <a:ln w="255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7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3068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3069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0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1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练习巩固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0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dur="indefinite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15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150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0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30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2" dur="500"/>
                                        <p:tgtEl>
                                          <p:spTgt spid="3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7" dur="500"/>
                                        <p:tgtEl>
                                          <p:spTgt spid="3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2" dur="500"/>
                                        <p:tgtEl>
                                          <p:spTgt spid="3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7" dur="500"/>
                                        <p:tgtEl>
                                          <p:spTgt spid="3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2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3073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5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3086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3087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8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9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0" name="Text Box 5"/>
          <p:cNvSpPr/>
          <p:nvPr/>
        </p:nvSpPr>
        <p:spPr>
          <a:xfrm>
            <a:off x="250920" y="19162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池塘里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只鸭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只鹅，鹅的只数是鸭的几分之几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Text Box 6"/>
          <p:cNvSpPr/>
          <p:nvPr/>
        </p:nvSpPr>
        <p:spPr>
          <a:xfrm>
            <a:off x="241200" y="3049560"/>
            <a:ext cx="84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池塘里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只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鹅的只数是鸭的     。池塘里有多少只鹅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2" name="Group 7"/>
          <p:cNvGrpSpPr/>
          <p:nvPr/>
        </p:nvGrpSpPr>
        <p:grpSpPr>
          <a:xfrm>
            <a:off x="6443640" y="2976480"/>
            <a:ext cx="407520" cy="703080"/>
            <a:chOff x="6443640" y="2976480"/>
            <a:chExt cx="407520" cy="703080"/>
          </a:xfrm>
        </p:grpSpPr>
        <p:sp>
          <p:nvSpPr>
            <p:cNvPr id="3093" name="Line 8"/>
            <p:cNvSpPr/>
            <p:nvPr/>
          </p:nvSpPr>
          <p:spPr>
            <a:xfrm>
              <a:off x="6443640" y="3340440"/>
              <a:ext cx="407520" cy="1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Text Box 9"/>
            <p:cNvSpPr/>
            <p:nvPr/>
          </p:nvSpPr>
          <p:spPr>
            <a:xfrm>
              <a:off x="6460560" y="29764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隶书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Text Box 10"/>
            <p:cNvSpPr/>
            <p:nvPr/>
          </p:nvSpPr>
          <p:spPr>
            <a:xfrm>
              <a:off x="6462360" y="3280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隶书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6" name="Group 11"/>
          <p:cNvGrpSpPr/>
          <p:nvPr/>
        </p:nvGrpSpPr>
        <p:grpSpPr>
          <a:xfrm>
            <a:off x="6659640" y="4221000"/>
            <a:ext cx="415440" cy="719640"/>
            <a:chOff x="6659640" y="4221000"/>
            <a:chExt cx="415440" cy="719640"/>
          </a:xfrm>
        </p:grpSpPr>
        <p:sp>
          <p:nvSpPr>
            <p:cNvPr id="3097" name="Line 12"/>
            <p:cNvSpPr/>
            <p:nvPr/>
          </p:nvSpPr>
          <p:spPr>
            <a:xfrm>
              <a:off x="6659640" y="4605120"/>
              <a:ext cx="415440" cy="1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Text Box 13"/>
            <p:cNvSpPr/>
            <p:nvPr/>
          </p:nvSpPr>
          <p:spPr>
            <a:xfrm>
              <a:off x="6680880" y="4221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隶书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Text Box 14"/>
            <p:cNvSpPr/>
            <p:nvPr/>
          </p:nvSpPr>
          <p:spPr>
            <a:xfrm>
              <a:off x="6681960" y="4541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隶书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0" name="Text Box 15"/>
          <p:cNvSpPr/>
          <p:nvPr/>
        </p:nvSpPr>
        <p:spPr>
          <a:xfrm>
            <a:off x="324000" y="4292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池塘里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只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正好是鸭的只数的     。池塘里有多少只鸭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矩形 35"/>
          <p:cNvSpPr/>
          <p:nvPr/>
        </p:nvSpPr>
        <p:spPr>
          <a:xfrm>
            <a:off x="1403280" y="5445000"/>
            <a:ext cx="5256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先分析数量关系，再解答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2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3103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5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3116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3117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8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9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0" name="Text Box 3"/>
          <p:cNvSpPr/>
          <p:nvPr/>
        </p:nvSpPr>
        <p:spPr>
          <a:xfrm>
            <a:off x="324000" y="191772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池塘里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只鸭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只鹅，鹅的只数是鸭的几分之几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4"/>
          <p:cNvSpPr/>
          <p:nvPr/>
        </p:nvSpPr>
        <p:spPr>
          <a:xfrm>
            <a:off x="1531440" y="2946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鸭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Text Box 5"/>
          <p:cNvSpPr/>
          <p:nvPr/>
        </p:nvSpPr>
        <p:spPr>
          <a:xfrm>
            <a:off x="1547280" y="3632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鹅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Line 6"/>
          <p:cNvSpPr/>
          <p:nvPr/>
        </p:nvSpPr>
        <p:spPr>
          <a:xfrm>
            <a:off x="3780000" y="3143160"/>
            <a:ext cx="0" cy="14292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Line 7"/>
          <p:cNvSpPr/>
          <p:nvPr/>
        </p:nvSpPr>
        <p:spPr>
          <a:xfrm>
            <a:off x="5219640" y="3143160"/>
            <a:ext cx="0" cy="14292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5" name="Group 8"/>
          <p:cNvGrpSpPr/>
          <p:nvPr/>
        </p:nvGrpSpPr>
        <p:grpSpPr>
          <a:xfrm>
            <a:off x="2340000" y="3143160"/>
            <a:ext cx="4319640" cy="142920"/>
            <a:chOff x="2340000" y="3143160"/>
            <a:chExt cx="4319640" cy="142920"/>
          </a:xfrm>
        </p:grpSpPr>
        <p:sp>
          <p:nvSpPr>
            <p:cNvPr id="3126" name="Line 9"/>
            <p:cNvSpPr/>
            <p:nvPr/>
          </p:nvSpPr>
          <p:spPr>
            <a:xfrm>
              <a:off x="2340000" y="3286080"/>
              <a:ext cx="431964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Line 10"/>
            <p:cNvSpPr/>
            <p:nvPr/>
          </p:nvSpPr>
          <p:spPr>
            <a:xfrm>
              <a:off x="2340000" y="314316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Line 11"/>
            <p:cNvSpPr/>
            <p:nvPr/>
          </p:nvSpPr>
          <p:spPr>
            <a:xfrm>
              <a:off x="6659640" y="314316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9" name="Group 12"/>
          <p:cNvGrpSpPr/>
          <p:nvPr/>
        </p:nvGrpSpPr>
        <p:grpSpPr>
          <a:xfrm>
            <a:off x="2340000" y="3790800"/>
            <a:ext cx="1440000" cy="142920"/>
            <a:chOff x="2340000" y="3790800"/>
            <a:chExt cx="1440000" cy="142920"/>
          </a:xfrm>
        </p:grpSpPr>
        <p:sp>
          <p:nvSpPr>
            <p:cNvPr id="3130" name="Line 13"/>
            <p:cNvSpPr/>
            <p:nvPr/>
          </p:nvSpPr>
          <p:spPr>
            <a:xfrm>
              <a:off x="2340000" y="3933720"/>
              <a:ext cx="144000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14"/>
            <p:cNvSpPr/>
            <p:nvPr/>
          </p:nvSpPr>
          <p:spPr>
            <a:xfrm>
              <a:off x="2340000" y="379080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15"/>
            <p:cNvSpPr/>
            <p:nvPr/>
          </p:nvSpPr>
          <p:spPr>
            <a:xfrm>
              <a:off x="3780000" y="379080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3" name="AutoShape 16"/>
          <p:cNvSpPr/>
          <p:nvPr/>
        </p:nvSpPr>
        <p:spPr>
          <a:xfrm rot="16200000">
            <a:off x="4427640" y="1268280"/>
            <a:ext cx="142560" cy="4321080"/>
          </a:xfrm>
          <a:custGeom>
            <a:avLst/>
            <a:gdLst>
              <a:gd name="textAreaLeft" fmla="*/ 91080 w 142560"/>
              <a:gd name="textAreaRight" fmla="*/ 142920 w 142560"/>
              <a:gd name="textAreaTop" fmla="*/ 112320 h 4321080"/>
              <a:gd name="textAreaBottom" fmla="*/ 420876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AutoShape 17"/>
          <p:cNvSpPr/>
          <p:nvPr/>
        </p:nvSpPr>
        <p:spPr>
          <a:xfrm rot="16200000">
            <a:off x="2987640" y="3358440"/>
            <a:ext cx="144360" cy="144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Line 18"/>
          <p:cNvSpPr/>
          <p:nvPr/>
        </p:nvSpPr>
        <p:spPr>
          <a:xfrm>
            <a:off x="3780000" y="3214800"/>
            <a:ext cx="0" cy="72072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Text Box 19"/>
          <p:cNvSpPr/>
          <p:nvPr/>
        </p:nvSpPr>
        <p:spPr>
          <a:xfrm>
            <a:off x="4097880" y="34304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Text Box 20"/>
          <p:cNvSpPr/>
          <p:nvPr/>
        </p:nvSpPr>
        <p:spPr>
          <a:xfrm>
            <a:off x="2787840" y="40528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8" name="Group 21"/>
          <p:cNvGrpSpPr/>
          <p:nvPr/>
        </p:nvGrpSpPr>
        <p:grpSpPr>
          <a:xfrm>
            <a:off x="2340000" y="3143160"/>
            <a:ext cx="1440000" cy="142920"/>
            <a:chOff x="2340000" y="3143160"/>
            <a:chExt cx="1440000" cy="142920"/>
          </a:xfrm>
        </p:grpSpPr>
        <p:sp>
          <p:nvSpPr>
            <p:cNvPr id="3139" name="Line 22"/>
            <p:cNvSpPr/>
            <p:nvPr/>
          </p:nvSpPr>
          <p:spPr>
            <a:xfrm>
              <a:off x="2340000" y="3286080"/>
              <a:ext cx="144000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Line 23"/>
            <p:cNvSpPr/>
            <p:nvPr/>
          </p:nvSpPr>
          <p:spPr>
            <a:xfrm>
              <a:off x="2340000" y="3143160"/>
              <a:ext cx="0" cy="1429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Line 24"/>
            <p:cNvSpPr/>
            <p:nvPr/>
          </p:nvSpPr>
          <p:spPr>
            <a:xfrm>
              <a:off x="3780000" y="3143160"/>
              <a:ext cx="0" cy="1429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2" name="Group 25"/>
          <p:cNvGrpSpPr/>
          <p:nvPr/>
        </p:nvGrpSpPr>
        <p:grpSpPr>
          <a:xfrm>
            <a:off x="6827040" y="1954080"/>
            <a:ext cx="1123920" cy="1037520"/>
            <a:chOff x="6827040" y="1954080"/>
            <a:chExt cx="1123920" cy="1037520"/>
          </a:xfrm>
        </p:grpSpPr>
        <p:sp>
          <p:nvSpPr>
            <p:cNvPr id="3143" name="Oval 26"/>
            <p:cNvSpPr/>
            <p:nvPr/>
          </p:nvSpPr>
          <p:spPr>
            <a:xfrm>
              <a:off x="7164360" y="1954080"/>
              <a:ext cx="576360" cy="504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Line 27"/>
            <p:cNvSpPr/>
            <p:nvPr/>
          </p:nvSpPr>
          <p:spPr>
            <a:xfrm>
              <a:off x="7405560" y="2387520"/>
              <a:ext cx="0" cy="1443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Text Box 28"/>
            <p:cNvSpPr/>
            <p:nvPr/>
          </p:nvSpPr>
          <p:spPr>
            <a:xfrm>
              <a:off x="6827040" y="2531880"/>
              <a:ext cx="1123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单位“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1”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6" name="Text Box 29"/>
          <p:cNvSpPr/>
          <p:nvPr/>
        </p:nvSpPr>
        <p:spPr>
          <a:xfrm>
            <a:off x="684360" y="4468680"/>
            <a:ext cx="77040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求一个数是另一个数的几分之几（或几倍）是多少，用除法计算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7" name="Group 30"/>
          <p:cNvGrpSpPr/>
          <p:nvPr/>
        </p:nvGrpSpPr>
        <p:grpSpPr>
          <a:xfrm>
            <a:off x="2226600" y="4799160"/>
            <a:ext cx="3865680" cy="1584360"/>
            <a:chOff x="2226600" y="4799160"/>
            <a:chExt cx="3865680" cy="1584360"/>
          </a:xfrm>
        </p:grpSpPr>
        <p:grpSp>
          <p:nvGrpSpPr>
            <p:cNvPr id="3148" name="Group 31"/>
            <p:cNvGrpSpPr/>
            <p:nvPr/>
          </p:nvGrpSpPr>
          <p:grpSpPr>
            <a:xfrm>
              <a:off x="2226600" y="4799160"/>
              <a:ext cx="2122200" cy="895320"/>
              <a:chOff x="2226600" y="4799160"/>
              <a:chExt cx="2122200" cy="895320"/>
            </a:xfrm>
          </p:grpSpPr>
          <p:sp>
            <p:nvSpPr>
              <p:cNvPr id="3149" name="Text Box 32"/>
              <p:cNvSpPr/>
              <p:nvPr/>
            </p:nvSpPr>
            <p:spPr>
              <a:xfrm>
                <a:off x="2226600" y="4981680"/>
                <a:ext cx="212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4÷12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＝    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0" name="Group 33"/>
              <p:cNvGrpSpPr/>
              <p:nvPr/>
            </p:nvGrpSpPr>
            <p:grpSpPr>
              <a:xfrm>
                <a:off x="3714840" y="4799160"/>
                <a:ext cx="380160" cy="895320"/>
                <a:chOff x="3714840" y="4799160"/>
                <a:chExt cx="380160" cy="895320"/>
              </a:xfrm>
            </p:grpSpPr>
            <p:sp>
              <p:nvSpPr>
                <p:cNvPr id="3151" name="Line 34"/>
                <p:cNvSpPr/>
                <p:nvPr/>
              </p:nvSpPr>
              <p:spPr>
                <a:xfrm>
                  <a:off x="3755880" y="5245200"/>
                  <a:ext cx="338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2" name="Text Box 35"/>
                <p:cNvSpPr/>
                <p:nvPr/>
              </p:nvSpPr>
              <p:spPr>
                <a:xfrm>
                  <a:off x="3714840" y="479916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  <a:ea typeface="隶书"/>
                    </a:rPr>
                    <a:t>1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3" name="Text Box 36"/>
                <p:cNvSpPr/>
                <p:nvPr/>
              </p:nvSpPr>
              <p:spPr>
                <a:xfrm>
                  <a:off x="3716280" y="517392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  <a:ea typeface="隶书"/>
                    </a:rPr>
                    <a:t>3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54" name="Text Box 37"/>
            <p:cNvSpPr/>
            <p:nvPr/>
          </p:nvSpPr>
          <p:spPr>
            <a:xfrm>
              <a:off x="4041720" y="5708880"/>
              <a:ext cx="142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答：鹅的只数是鸭的     。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5" name="Group 38"/>
            <p:cNvGrpSpPr/>
            <p:nvPr/>
          </p:nvGrpSpPr>
          <p:grpSpPr>
            <a:xfrm>
              <a:off x="5712120" y="5488200"/>
              <a:ext cx="380160" cy="895320"/>
              <a:chOff x="5712120" y="5488200"/>
              <a:chExt cx="380160" cy="895320"/>
            </a:xfrm>
          </p:grpSpPr>
          <p:sp>
            <p:nvSpPr>
              <p:cNvPr id="3156" name="Line 39"/>
              <p:cNvSpPr/>
              <p:nvPr/>
            </p:nvSpPr>
            <p:spPr>
              <a:xfrm>
                <a:off x="5753160" y="5934240"/>
                <a:ext cx="33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Text Box 40"/>
              <p:cNvSpPr/>
              <p:nvPr/>
            </p:nvSpPr>
            <p:spPr>
              <a:xfrm>
                <a:off x="5712120" y="54882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隶书"/>
                  </a:rPr>
                  <a:t>1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Text Box 41"/>
              <p:cNvSpPr/>
              <p:nvPr/>
            </p:nvSpPr>
            <p:spPr>
              <a:xfrm>
                <a:off x="5713560" y="58629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隶书"/>
                  </a:rPr>
                  <a:t>3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528" dur="indefinite" restart="never" nodeType="tmRoot">
          <p:childTnLst>
            <p:seq>
              <p:cTn id="1529" dur="indefinite" nodeType="mainSeq">
                <p:childTnLst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500"/>
                                        <p:tgtEl>
                                          <p:spTgt spid="3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500"/>
                            </p:stCondLst>
                            <p:childTnLst>
                              <p:par>
                                <p:cTn id="15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8" dur="500"/>
                                        <p:tgtEl>
                                          <p:spTgt spid="3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2" dur="1000"/>
                                        <p:tgtEl>
                                          <p:spTgt spid="3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3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1" dur="500"/>
                                        <p:tgtEl>
                                          <p:spTgt spid="3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5" dur="500"/>
                                        <p:tgtEl>
                                          <p:spTgt spid="3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9" dur="1000"/>
                                        <p:tgtEl>
                                          <p:spTgt spid="3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3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8" dur="500"/>
                                        <p:tgtEl>
                                          <p:spTgt spid="3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509 L 3.33333E-006 0.00023 E">
                                      <p:cBhvr>
                                        <p:cTn id="1576" dur="2000" fill="hold"/>
                                        <p:tgtEl>
                                          <p:spTgt spid="3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8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023 L 0.15764 0.00023 E">
                                      <p:cBhvr>
                                        <p:cTn id="1579" dur="500" fill="hold"/>
                                        <p:tgtEl>
                                          <p:spTgt spid="3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1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64 0.00023 L 0.3151 7.40741E-007 E">
                                      <p:cBhvr>
                                        <p:cTn id="1582" dur="500" fill="hold"/>
                                        <p:tgtEl>
                                          <p:spTgt spid="3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2" dur="500"/>
                                        <p:tgtEl>
                                          <p:spTgt spid="3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500"/>
                                        <p:tgtEl>
                                          <p:spTgt spid="3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500"/>
                            </p:stCondLst>
                            <p:childTnLst>
                              <p:par>
                                <p:cTn id="159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9" dur="500"/>
                                        <p:tgtEl>
                                          <p:spTgt spid="3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3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3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0" dur="500"/>
                                        <p:tgtEl>
                                          <p:spTgt spid="3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6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497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9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510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511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2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3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观察思考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4" name="Rectangle 2"/>
          <p:cNvSpPr/>
          <p:nvPr/>
        </p:nvSpPr>
        <p:spPr>
          <a:xfrm>
            <a:off x="684360" y="1413000"/>
            <a:ext cx="345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分数乘法的计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Text Box 7"/>
          <p:cNvSpPr/>
          <p:nvPr/>
        </p:nvSpPr>
        <p:spPr>
          <a:xfrm>
            <a:off x="2556000" y="2637000"/>
            <a:ext cx="6337080" cy="460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分数的分子和整数相乘的积做分子，分母不变，能约分的先约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Text Box 8"/>
          <p:cNvSpPr/>
          <p:nvPr/>
        </p:nvSpPr>
        <p:spPr>
          <a:xfrm>
            <a:off x="341280" y="2847960"/>
            <a:ext cx="2087640" cy="521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分数乘整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Text Box 9"/>
          <p:cNvSpPr/>
          <p:nvPr/>
        </p:nvSpPr>
        <p:spPr>
          <a:xfrm>
            <a:off x="341280" y="3784680"/>
            <a:ext cx="2087640" cy="521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分数乘分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Text Box 10"/>
          <p:cNvSpPr/>
          <p:nvPr/>
        </p:nvSpPr>
        <p:spPr>
          <a:xfrm>
            <a:off x="324000" y="4840200"/>
            <a:ext cx="2089080" cy="521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分数乘小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Text Box 11"/>
          <p:cNvSpPr/>
          <p:nvPr/>
        </p:nvSpPr>
        <p:spPr>
          <a:xfrm>
            <a:off x="2575080" y="3568680"/>
            <a:ext cx="6335640" cy="460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子相乘做分子，分母相乘做分母。能约分的要先约分再相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Text Box 12"/>
          <p:cNvSpPr/>
          <p:nvPr/>
        </p:nvSpPr>
        <p:spPr>
          <a:xfrm>
            <a:off x="2556000" y="4503600"/>
            <a:ext cx="6337080" cy="826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数乘小数，可以将小数化成分数，再进行计算；也可以看小数是否可以和分母约分，如果分母可约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就可以直接约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2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" dur="500"/>
                                        <p:tgtEl>
                                          <p:spTgt spid="2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2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9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3160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2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3173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3174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5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6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7" name="Text Box 3"/>
          <p:cNvSpPr/>
          <p:nvPr/>
        </p:nvSpPr>
        <p:spPr>
          <a:xfrm>
            <a:off x="2190240" y="2560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鸭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Text Box 4"/>
          <p:cNvSpPr/>
          <p:nvPr/>
        </p:nvSpPr>
        <p:spPr>
          <a:xfrm>
            <a:off x="2206080" y="3246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鹅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Line 5"/>
          <p:cNvSpPr/>
          <p:nvPr/>
        </p:nvSpPr>
        <p:spPr>
          <a:xfrm>
            <a:off x="4438800" y="2757600"/>
            <a:ext cx="0" cy="14292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Line 6"/>
          <p:cNvSpPr/>
          <p:nvPr/>
        </p:nvSpPr>
        <p:spPr>
          <a:xfrm>
            <a:off x="5878440" y="2757600"/>
            <a:ext cx="0" cy="14292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1" name="Group 7"/>
          <p:cNvGrpSpPr/>
          <p:nvPr/>
        </p:nvGrpSpPr>
        <p:grpSpPr>
          <a:xfrm>
            <a:off x="2998800" y="2757600"/>
            <a:ext cx="4319640" cy="142920"/>
            <a:chOff x="2998800" y="2757600"/>
            <a:chExt cx="4319640" cy="142920"/>
          </a:xfrm>
        </p:grpSpPr>
        <p:sp>
          <p:nvSpPr>
            <p:cNvPr id="3182" name="Line 8"/>
            <p:cNvSpPr/>
            <p:nvPr/>
          </p:nvSpPr>
          <p:spPr>
            <a:xfrm>
              <a:off x="2998800" y="2900520"/>
              <a:ext cx="431964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Line 9"/>
            <p:cNvSpPr/>
            <p:nvPr/>
          </p:nvSpPr>
          <p:spPr>
            <a:xfrm>
              <a:off x="2998800" y="275760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Line 10"/>
            <p:cNvSpPr/>
            <p:nvPr/>
          </p:nvSpPr>
          <p:spPr>
            <a:xfrm>
              <a:off x="7318440" y="275760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5" name="Group 11"/>
          <p:cNvGrpSpPr/>
          <p:nvPr/>
        </p:nvGrpSpPr>
        <p:grpSpPr>
          <a:xfrm>
            <a:off x="2998800" y="3405240"/>
            <a:ext cx="1440000" cy="142920"/>
            <a:chOff x="2998800" y="3405240"/>
            <a:chExt cx="1440000" cy="142920"/>
          </a:xfrm>
        </p:grpSpPr>
        <p:sp>
          <p:nvSpPr>
            <p:cNvPr id="3186" name="Line 12"/>
            <p:cNvSpPr/>
            <p:nvPr/>
          </p:nvSpPr>
          <p:spPr>
            <a:xfrm>
              <a:off x="2998800" y="3548160"/>
              <a:ext cx="144000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Line 13"/>
            <p:cNvSpPr/>
            <p:nvPr/>
          </p:nvSpPr>
          <p:spPr>
            <a:xfrm>
              <a:off x="2998800" y="340524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Line 14"/>
            <p:cNvSpPr/>
            <p:nvPr/>
          </p:nvSpPr>
          <p:spPr>
            <a:xfrm>
              <a:off x="4438800" y="340524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9" name="AutoShape 15"/>
          <p:cNvSpPr/>
          <p:nvPr/>
        </p:nvSpPr>
        <p:spPr>
          <a:xfrm rot="16200000">
            <a:off x="5085360" y="883080"/>
            <a:ext cx="142920" cy="43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12320 h 4319280"/>
              <a:gd name="textAreaBottom" fmla="*/ 4206960 h 43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AutoShape 16"/>
          <p:cNvSpPr/>
          <p:nvPr/>
        </p:nvSpPr>
        <p:spPr>
          <a:xfrm rot="16200000">
            <a:off x="3646440" y="2972880"/>
            <a:ext cx="144360" cy="144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Line 17"/>
          <p:cNvSpPr/>
          <p:nvPr/>
        </p:nvSpPr>
        <p:spPr>
          <a:xfrm>
            <a:off x="4438800" y="2900520"/>
            <a:ext cx="0" cy="64908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Text Box 18"/>
          <p:cNvSpPr/>
          <p:nvPr/>
        </p:nvSpPr>
        <p:spPr>
          <a:xfrm>
            <a:off x="4756680" y="30448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Text Box 19"/>
          <p:cNvSpPr/>
          <p:nvPr/>
        </p:nvSpPr>
        <p:spPr>
          <a:xfrm>
            <a:off x="3476160" y="3648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？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Text Box 20"/>
          <p:cNvSpPr/>
          <p:nvPr/>
        </p:nvSpPr>
        <p:spPr>
          <a:xfrm>
            <a:off x="1628640" y="4287960"/>
            <a:ext cx="55580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求一个数的几分之几 是多少，用乘法计算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5" name="Group 21"/>
          <p:cNvGrpSpPr/>
          <p:nvPr/>
        </p:nvGrpSpPr>
        <p:grpSpPr>
          <a:xfrm>
            <a:off x="2231280" y="4863960"/>
            <a:ext cx="3341880" cy="1369440"/>
            <a:chOff x="2231280" y="4863960"/>
            <a:chExt cx="3341880" cy="1369440"/>
          </a:xfrm>
        </p:grpSpPr>
        <p:sp>
          <p:nvSpPr>
            <p:cNvPr id="3196" name="Text Box 22"/>
            <p:cNvSpPr/>
            <p:nvPr/>
          </p:nvSpPr>
          <p:spPr>
            <a:xfrm>
              <a:off x="2231280" y="5046480"/>
              <a:ext cx="334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2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×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4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（只）  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7" name="Group 23"/>
            <p:cNvGrpSpPr/>
            <p:nvPr/>
          </p:nvGrpSpPr>
          <p:grpSpPr>
            <a:xfrm>
              <a:off x="3057840" y="4863960"/>
              <a:ext cx="380160" cy="895320"/>
              <a:chOff x="3057840" y="4863960"/>
              <a:chExt cx="380160" cy="895320"/>
            </a:xfrm>
          </p:grpSpPr>
          <p:sp>
            <p:nvSpPr>
              <p:cNvPr id="3198" name="Line 24"/>
              <p:cNvSpPr/>
              <p:nvPr/>
            </p:nvSpPr>
            <p:spPr>
              <a:xfrm>
                <a:off x="3098880" y="5310000"/>
                <a:ext cx="33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Text Box 25"/>
              <p:cNvSpPr/>
              <p:nvPr/>
            </p:nvSpPr>
            <p:spPr>
              <a:xfrm>
                <a:off x="3057840" y="48639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隶书"/>
                  </a:rPr>
                  <a:t>1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Text Box 26"/>
              <p:cNvSpPr/>
              <p:nvPr/>
            </p:nvSpPr>
            <p:spPr>
              <a:xfrm>
                <a:off x="3059280" y="52387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隶书"/>
                  </a:rPr>
                  <a:t>3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1" name="Text Box 27"/>
            <p:cNvSpPr/>
            <p:nvPr/>
          </p:nvSpPr>
          <p:spPr>
            <a:xfrm>
              <a:off x="3812400" y="5773680"/>
              <a:ext cx="174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答：池塘里有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4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只鹅。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2" name="Group 29"/>
          <p:cNvGrpSpPr/>
          <p:nvPr/>
        </p:nvGrpSpPr>
        <p:grpSpPr>
          <a:xfrm>
            <a:off x="6477120" y="1785960"/>
            <a:ext cx="407520" cy="703080"/>
            <a:chOff x="6477120" y="1785960"/>
            <a:chExt cx="407520" cy="703080"/>
          </a:xfrm>
        </p:grpSpPr>
        <p:sp>
          <p:nvSpPr>
            <p:cNvPr id="3203" name="Line 30"/>
            <p:cNvSpPr/>
            <p:nvPr/>
          </p:nvSpPr>
          <p:spPr>
            <a:xfrm>
              <a:off x="6477120" y="2149920"/>
              <a:ext cx="407520" cy="1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Text Box 31"/>
            <p:cNvSpPr/>
            <p:nvPr/>
          </p:nvSpPr>
          <p:spPr>
            <a:xfrm>
              <a:off x="6494040" y="1785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隶书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Text Box 32"/>
            <p:cNvSpPr/>
            <p:nvPr/>
          </p:nvSpPr>
          <p:spPr>
            <a:xfrm>
              <a:off x="6495840" y="2090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隶书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6" name="Group 33"/>
          <p:cNvGrpSpPr/>
          <p:nvPr/>
        </p:nvGrpSpPr>
        <p:grpSpPr>
          <a:xfrm>
            <a:off x="5379120" y="1839960"/>
            <a:ext cx="1123920" cy="1037160"/>
            <a:chOff x="5379120" y="1839960"/>
            <a:chExt cx="1123920" cy="1037160"/>
          </a:xfrm>
        </p:grpSpPr>
        <p:sp>
          <p:nvSpPr>
            <p:cNvPr id="3207" name="Oval 34"/>
            <p:cNvSpPr/>
            <p:nvPr/>
          </p:nvSpPr>
          <p:spPr>
            <a:xfrm>
              <a:off x="5716440" y="1839960"/>
              <a:ext cx="576360" cy="504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Line 35"/>
            <p:cNvSpPr/>
            <p:nvPr/>
          </p:nvSpPr>
          <p:spPr>
            <a:xfrm>
              <a:off x="5957640" y="2273040"/>
              <a:ext cx="0" cy="1440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Text Box 36"/>
            <p:cNvSpPr/>
            <p:nvPr/>
          </p:nvSpPr>
          <p:spPr>
            <a:xfrm>
              <a:off x="5379120" y="2417400"/>
              <a:ext cx="1123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单位“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1”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0" name="Text Box 28"/>
          <p:cNvSpPr/>
          <p:nvPr/>
        </p:nvSpPr>
        <p:spPr>
          <a:xfrm>
            <a:off x="324000" y="1839960"/>
            <a:ext cx="843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池塘里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只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鹅的只数是鸭的     。池塘里有多少只鹅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1000"/>
                                        <p:tgtEl>
                                          <p:spTgt spid="3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1" dur="1000"/>
                                        <p:tgtEl>
                                          <p:spTgt spid="3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5" dur="10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9" dur="500"/>
                                        <p:tgtEl>
                                          <p:spTgt spid="3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4" dur="1000"/>
                                        <p:tgtEl>
                                          <p:spTgt spid="3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9" dur="1000"/>
                                        <p:tgtEl>
                                          <p:spTgt spid="3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1000"/>
                                        <p:tgtEl>
                                          <p:spTgt spid="3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8379 L 3.33333E-006 0.01065 E">
                                      <p:cBhvr>
                                        <p:cTn id="1648" dur="2000" fill="hold"/>
                                        <p:tgtEl>
                                          <p:spTgt spid="3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2" dur="1000"/>
                                        <p:tgtEl>
                                          <p:spTgt spid="3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7" dur="500"/>
                                        <p:tgtEl>
                                          <p:spTgt spid="3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500"/>
                            </p:stCondLst>
                            <p:childTnLst>
                              <p:par>
                                <p:cTn id="165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1" dur="1000"/>
                                        <p:tgtEl>
                                          <p:spTgt spid="3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1000"/>
                                        <p:tgtEl>
                                          <p:spTgt spid="3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3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3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6" dur="500"/>
                                        <p:tgtEl>
                                          <p:spTgt spid="3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1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3212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4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3225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3226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7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8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9" name="Text Box 3"/>
          <p:cNvSpPr/>
          <p:nvPr/>
        </p:nvSpPr>
        <p:spPr>
          <a:xfrm>
            <a:off x="756720" y="270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鸭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Text Box 4"/>
          <p:cNvSpPr/>
          <p:nvPr/>
        </p:nvSpPr>
        <p:spPr>
          <a:xfrm>
            <a:off x="772560" y="3394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鹅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1" name="Group 5"/>
          <p:cNvGrpSpPr/>
          <p:nvPr/>
        </p:nvGrpSpPr>
        <p:grpSpPr>
          <a:xfrm>
            <a:off x="1565280" y="3552840"/>
            <a:ext cx="1440000" cy="142920"/>
            <a:chOff x="1565280" y="3552840"/>
            <a:chExt cx="1440000" cy="142920"/>
          </a:xfrm>
        </p:grpSpPr>
        <p:sp>
          <p:nvSpPr>
            <p:cNvPr id="3232" name="Line 6"/>
            <p:cNvSpPr/>
            <p:nvPr/>
          </p:nvSpPr>
          <p:spPr>
            <a:xfrm>
              <a:off x="1565280" y="3695760"/>
              <a:ext cx="144000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Line 7"/>
            <p:cNvSpPr/>
            <p:nvPr/>
          </p:nvSpPr>
          <p:spPr>
            <a:xfrm>
              <a:off x="1565280" y="355284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Line 8"/>
            <p:cNvSpPr/>
            <p:nvPr/>
          </p:nvSpPr>
          <p:spPr>
            <a:xfrm>
              <a:off x="3005280" y="355284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5" name="AutoShape 9"/>
          <p:cNvSpPr/>
          <p:nvPr/>
        </p:nvSpPr>
        <p:spPr>
          <a:xfrm rot="16200000">
            <a:off x="3694320" y="991800"/>
            <a:ext cx="45720" cy="4303800"/>
          </a:xfrm>
          <a:custGeom>
            <a:avLst/>
            <a:gdLst>
              <a:gd name="textAreaLeft" fmla="*/ 29160 w 45720"/>
              <a:gd name="textAreaRight" fmla="*/ 46080 w 45720"/>
              <a:gd name="textAreaTop" fmla="*/ 35640 h 4303800"/>
              <a:gd name="textAreaBottom" fmla="*/ 4268160 h 430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9"/>
                  <a:pt x="10800" y="577"/>
                </a:cubicBezTo>
                <a:lnTo>
                  <a:pt x="10800" y="10223"/>
                </a:lnTo>
                <a:cubicBezTo>
                  <a:pt x="10800" y="10512"/>
                  <a:pt x="5400" y="10800"/>
                  <a:pt x="0" y="10800"/>
                </a:cubicBezTo>
                <a:cubicBezTo>
                  <a:pt x="5400" y="10800"/>
                  <a:pt x="10800" y="11089"/>
                  <a:pt x="10800" y="11377"/>
                </a:cubicBezTo>
                <a:lnTo>
                  <a:pt x="10800" y="21023"/>
                </a:lnTo>
                <a:cubicBezTo>
                  <a:pt x="10800" y="21312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AutoShape 10"/>
          <p:cNvSpPr/>
          <p:nvPr/>
        </p:nvSpPr>
        <p:spPr>
          <a:xfrm rot="16200000">
            <a:off x="2212920" y="3120480"/>
            <a:ext cx="144360" cy="144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Line 11"/>
          <p:cNvSpPr/>
          <p:nvPr/>
        </p:nvSpPr>
        <p:spPr>
          <a:xfrm>
            <a:off x="3005280" y="2832120"/>
            <a:ext cx="0" cy="86508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2"/>
          <p:cNvSpPr/>
          <p:nvPr/>
        </p:nvSpPr>
        <p:spPr>
          <a:xfrm>
            <a:off x="3436560" y="3173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？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Text Box 13"/>
          <p:cNvSpPr/>
          <p:nvPr/>
        </p:nvSpPr>
        <p:spPr>
          <a:xfrm>
            <a:off x="1941840" y="37688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0" name="Group 14"/>
          <p:cNvGrpSpPr/>
          <p:nvPr/>
        </p:nvGrpSpPr>
        <p:grpSpPr>
          <a:xfrm>
            <a:off x="4716360" y="1700280"/>
            <a:ext cx="1728360" cy="1167480"/>
            <a:chOff x="4716360" y="1700280"/>
            <a:chExt cx="1728360" cy="1167480"/>
          </a:xfrm>
        </p:grpSpPr>
        <p:sp>
          <p:nvSpPr>
            <p:cNvPr id="3241" name="Oval 15"/>
            <p:cNvSpPr/>
            <p:nvPr/>
          </p:nvSpPr>
          <p:spPr>
            <a:xfrm>
              <a:off x="4716360" y="1700280"/>
              <a:ext cx="1728360" cy="5184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Line 16"/>
            <p:cNvSpPr/>
            <p:nvPr/>
          </p:nvSpPr>
          <p:spPr>
            <a:xfrm>
              <a:off x="5568480" y="2218680"/>
              <a:ext cx="0" cy="1890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Text Box 17"/>
            <p:cNvSpPr/>
            <p:nvPr/>
          </p:nvSpPr>
          <p:spPr>
            <a:xfrm>
              <a:off x="4984560" y="2408040"/>
              <a:ext cx="1123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单位“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1”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4" name="Text Box 18"/>
          <p:cNvSpPr/>
          <p:nvPr/>
        </p:nvSpPr>
        <p:spPr>
          <a:xfrm>
            <a:off x="1763640" y="4365720"/>
            <a:ext cx="5543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单位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”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的量未知，可直接用除法计算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5" name="Group 19"/>
          <p:cNvGrpSpPr/>
          <p:nvPr/>
        </p:nvGrpSpPr>
        <p:grpSpPr>
          <a:xfrm>
            <a:off x="2725560" y="5121360"/>
            <a:ext cx="3723480" cy="1256760"/>
            <a:chOff x="2725560" y="5121360"/>
            <a:chExt cx="3723480" cy="1256760"/>
          </a:xfrm>
        </p:grpSpPr>
        <p:sp>
          <p:nvSpPr>
            <p:cNvPr id="3246" name="Text Box 20"/>
            <p:cNvSpPr/>
            <p:nvPr/>
          </p:nvSpPr>
          <p:spPr>
            <a:xfrm>
              <a:off x="2725560" y="5303880"/>
              <a:ext cx="323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4÷   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2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（只）  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7" name="Group 21"/>
            <p:cNvGrpSpPr/>
            <p:nvPr/>
          </p:nvGrpSpPr>
          <p:grpSpPr>
            <a:xfrm>
              <a:off x="3291120" y="5121360"/>
              <a:ext cx="380160" cy="895320"/>
              <a:chOff x="3291120" y="5121360"/>
              <a:chExt cx="380160" cy="895320"/>
            </a:xfrm>
          </p:grpSpPr>
          <p:sp>
            <p:nvSpPr>
              <p:cNvPr id="3248" name="Line 22"/>
              <p:cNvSpPr/>
              <p:nvPr/>
            </p:nvSpPr>
            <p:spPr>
              <a:xfrm>
                <a:off x="3332160" y="5567400"/>
                <a:ext cx="33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Text Box 23"/>
              <p:cNvSpPr/>
              <p:nvPr/>
            </p:nvSpPr>
            <p:spPr>
              <a:xfrm>
                <a:off x="3291120" y="51213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隶书"/>
                  </a:rPr>
                  <a:t>1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Text Box 24"/>
              <p:cNvSpPr/>
              <p:nvPr/>
            </p:nvSpPr>
            <p:spPr>
              <a:xfrm>
                <a:off x="3292560" y="5496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隶书"/>
                  </a:rPr>
                  <a:t>3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1" name="Text Box 25"/>
            <p:cNvSpPr/>
            <p:nvPr/>
          </p:nvSpPr>
          <p:spPr>
            <a:xfrm>
              <a:off x="4137840" y="5918400"/>
              <a:ext cx="231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答：池塘里有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2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只鸭。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2" name="Group 26"/>
          <p:cNvGrpSpPr/>
          <p:nvPr/>
        </p:nvGrpSpPr>
        <p:grpSpPr>
          <a:xfrm>
            <a:off x="1565280" y="3552840"/>
            <a:ext cx="1440000" cy="142920"/>
            <a:chOff x="1565280" y="3552840"/>
            <a:chExt cx="1440000" cy="142920"/>
          </a:xfrm>
        </p:grpSpPr>
        <p:sp>
          <p:nvSpPr>
            <p:cNvPr id="3253" name="Line 27"/>
            <p:cNvSpPr/>
            <p:nvPr/>
          </p:nvSpPr>
          <p:spPr>
            <a:xfrm>
              <a:off x="1565280" y="3695760"/>
              <a:ext cx="144000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Line 28"/>
            <p:cNvSpPr/>
            <p:nvPr/>
          </p:nvSpPr>
          <p:spPr>
            <a:xfrm>
              <a:off x="1565280" y="355284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Line 29"/>
            <p:cNvSpPr/>
            <p:nvPr/>
          </p:nvSpPr>
          <p:spPr>
            <a:xfrm>
              <a:off x="3005280" y="355284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6" name="Group 30"/>
          <p:cNvGrpSpPr/>
          <p:nvPr/>
        </p:nvGrpSpPr>
        <p:grpSpPr>
          <a:xfrm>
            <a:off x="1565280" y="2760840"/>
            <a:ext cx="1440000" cy="142560"/>
            <a:chOff x="1565280" y="2760840"/>
            <a:chExt cx="1440000" cy="142560"/>
          </a:xfrm>
        </p:grpSpPr>
        <p:sp>
          <p:nvSpPr>
            <p:cNvPr id="3257" name="Line 31"/>
            <p:cNvSpPr/>
            <p:nvPr/>
          </p:nvSpPr>
          <p:spPr>
            <a:xfrm>
              <a:off x="1565280" y="2903400"/>
              <a:ext cx="144000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Line 32"/>
            <p:cNvSpPr/>
            <p:nvPr/>
          </p:nvSpPr>
          <p:spPr>
            <a:xfrm>
              <a:off x="1565280" y="2760840"/>
              <a:ext cx="0" cy="14256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Line 33"/>
            <p:cNvSpPr/>
            <p:nvPr/>
          </p:nvSpPr>
          <p:spPr>
            <a:xfrm>
              <a:off x="3005280" y="2760840"/>
              <a:ext cx="0" cy="14256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0" name="Group 34"/>
          <p:cNvGrpSpPr/>
          <p:nvPr/>
        </p:nvGrpSpPr>
        <p:grpSpPr>
          <a:xfrm>
            <a:off x="3005280" y="2760840"/>
            <a:ext cx="1439640" cy="142560"/>
            <a:chOff x="3005280" y="2760840"/>
            <a:chExt cx="1439640" cy="142560"/>
          </a:xfrm>
        </p:grpSpPr>
        <p:sp>
          <p:nvSpPr>
            <p:cNvPr id="3261" name="Line 35"/>
            <p:cNvSpPr/>
            <p:nvPr/>
          </p:nvSpPr>
          <p:spPr>
            <a:xfrm>
              <a:off x="3005280" y="2903400"/>
              <a:ext cx="143964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Line 36"/>
            <p:cNvSpPr/>
            <p:nvPr/>
          </p:nvSpPr>
          <p:spPr>
            <a:xfrm>
              <a:off x="3005280" y="2760840"/>
              <a:ext cx="0" cy="14256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Line 37"/>
            <p:cNvSpPr/>
            <p:nvPr/>
          </p:nvSpPr>
          <p:spPr>
            <a:xfrm>
              <a:off x="4444920" y="2760840"/>
              <a:ext cx="0" cy="14256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4" name="Group 38"/>
          <p:cNvGrpSpPr/>
          <p:nvPr/>
        </p:nvGrpSpPr>
        <p:grpSpPr>
          <a:xfrm>
            <a:off x="3880800" y="3573360"/>
            <a:ext cx="2339280" cy="729000"/>
            <a:chOff x="3880800" y="3573360"/>
            <a:chExt cx="2339280" cy="729000"/>
          </a:xfrm>
        </p:grpSpPr>
        <p:grpSp>
          <p:nvGrpSpPr>
            <p:cNvPr id="3265" name="Group 39"/>
            <p:cNvGrpSpPr/>
            <p:nvPr/>
          </p:nvGrpSpPr>
          <p:grpSpPr>
            <a:xfrm>
              <a:off x="5220720" y="3612960"/>
              <a:ext cx="360000" cy="689400"/>
              <a:chOff x="5220720" y="3612960"/>
              <a:chExt cx="360000" cy="689400"/>
            </a:xfrm>
          </p:grpSpPr>
          <p:sp>
            <p:nvSpPr>
              <p:cNvPr id="3266" name="Line 40"/>
              <p:cNvSpPr/>
              <p:nvPr/>
            </p:nvSpPr>
            <p:spPr>
              <a:xfrm>
                <a:off x="5233320" y="3960720"/>
                <a:ext cx="347400" cy="1440"/>
              </a:xfrm>
              <a:prstGeom prst="line">
                <a:avLst/>
              </a:prstGeom>
              <a:ln w="255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Text Box 41"/>
              <p:cNvSpPr/>
              <p:nvPr/>
            </p:nvSpPr>
            <p:spPr>
              <a:xfrm>
                <a:off x="5220720" y="3612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  <a:ea typeface="隶书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Text Box 42"/>
              <p:cNvSpPr/>
              <p:nvPr/>
            </p:nvSpPr>
            <p:spPr>
              <a:xfrm>
                <a:off x="5222160" y="39034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  <a:ea typeface="隶书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9" name="Text Box 43"/>
            <p:cNvSpPr/>
            <p:nvPr/>
          </p:nvSpPr>
          <p:spPr>
            <a:xfrm>
              <a:off x="4849200" y="3573360"/>
              <a:ext cx="9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仿宋_GB2312"/>
                </a:rPr>
                <a:t>×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    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仿宋_GB2312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Text Box 44"/>
            <p:cNvSpPr/>
            <p:nvPr/>
          </p:nvSpPr>
          <p:spPr>
            <a:xfrm>
              <a:off x="3880800" y="3711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鸭的只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Text Box 45"/>
            <p:cNvSpPr/>
            <p:nvPr/>
          </p:nvSpPr>
          <p:spPr>
            <a:xfrm>
              <a:off x="5856480" y="3711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华文新魏"/>
                </a:rPr>
                <a:t>鹅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2" name="Group 46"/>
          <p:cNvGrpSpPr/>
          <p:nvPr/>
        </p:nvGrpSpPr>
        <p:grpSpPr>
          <a:xfrm>
            <a:off x="6662880" y="1700280"/>
            <a:ext cx="415440" cy="719640"/>
            <a:chOff x="6662880" y="1700280"/>
            <a:chExt cx="415440" cy="719640"/>
          </a:xfrm>
        </p:grpSpPr>
        <p:sp>
          <p:nvSpPr>
            <p:cNvPr id="3273" name="Line 47"/>
            <p:cNvSpPr/>
            <p:nvPr/>
          </p:nvSpPr>
          <p:spPr>
            <a:xfrm>
              <a:off x="6662880" y="2084400"/>
              <a:ext cx="415440" cy="1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Text Box 48"/>
            <p:cNvSpPr/>
            <p:nvPr/>
          </p:nvSpPr>
          <p:spPr>
            <a:xfrm>
              <a:off x="6684120" y="1700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隶书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Text Box 49"/>
            <p:cNvSpPr/>
            <p:nvPr/>
          </p:nvSpPr>
          <p:spPr>
            <a:xfrm>
              <a:off x="6685200" y="2021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隶书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6" name="Text Box 50"/>
          <p:cNvSpPr/>
          <p:nvPr/>
        </p:nvSpPr>
        <p:spPr>
          <a:xfrm>
            <a:off x="324000" y="17524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池塘里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只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正好是鸭的只数的     。池塘里有多少只鸭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7" name="Group 34"/>
          <p:cNvGrpSpPr/>
          <p:nvPr/>
        </p:nvGrpSpPr>
        <p:grpSpPr>
          <a:xfrm>
            <a:off x="4429080" y="2781360"/>
            <a:ext cx="1440000" cy="142920"/>
            <a:chOff x="4429080" y="2781360"/>
            <a:chExt cx="1440000" cy="142920"/>
          </a:xfrm>
        </p:grpSpPr>
        <p:sp>
          <p:nvSpPr>
            <p:cNvPr id="3278" name="Line 35"/>
            <p:cNvSpPr/>
            <p:nvPr/>
          </p:nvSpPr>
          <p:spPr>
            <a:xfrm>
              <a:off x="4429080" y="2924280"/>
              <a:ext cx="144000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Line 36"/>
            <p:cNvSpPr/>
            <p:nvPr/>
          </p:nvSpPr>
          <p:spPr>
            <a:xfrm>
              <a:off x="4429080" y="278136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Line 37"/>
            <p:cNvSpPr/>
            <p:nvPr/>
          </p:nvSpPr>
          <p:spPr>
            <a:xfrm>
              <a:off x="5869080" y="2781360"/>
              <a:ext cx="0" cy="14292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77" dur="indefinite" restart="never" nodeType="tmRoot">
          <p:childTnLst>
            <p:seq>
              <p:cTn id="1678" dur="indefinite" nodeType="mainSeq">
                <p:childTnLst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3" dur="500"/>
                                        <p:tgtEl>
                                          <p:spTgt spid="3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500"/>
                            </p:stCondLst>
                            <p:childTnLst>
                              <p:par>
                                <p:cTn id="16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7" dur="500"/>
                                        <p:tgtEl>
                                          <p:spTgt spid="3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1" dur="500"/>
                                        <p:tgtEl>
                                          <p:spTgt spid="3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5" dur="500"/>
                                        <p:tgtEl>
                                          <p:spTgt spid="3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L 0.00017 -0.10486 E">
                                      <p:cBhvr>
                                        <p:cTn id="1701" dur="2000" fill="hold"/>
                                        <p:tgtEl>
                                          <p:spTgt spid="3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1065 L 0.15746 0.01065 E">
                                      <p:cBhvr>
                                        <p:cTn id="1706" dur="500" fill="hold"/>
                                        <p:tgtEl>
                                          <p:spTgt spid="3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1065 L 0.15746 0.01065 E">
                                      <p:cBhvr>
                                        <p:cTn id="1711" dur="500" fill="hold"/>
                                        <p:tgtEl>
                                          <p:spTgt spid="3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3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500"/>
                            </p:stCondLst>
                            <p:childTnLst>
                              <p:par>
                                <p:cTn id="17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0" dur="500"/>
                                        <p:tgtEl>
                                          <p:spTgt spid="3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5" dur="1000"/>
                                        <p:tgtEl>
                                          <p:spTgt spid="3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9" dur="500"/>
                                        <p:tgtEl>
                                          <p:spTgt spid="3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4" dur="500"/>
                                        <p:tgtEl>
                                          <p:spTgt spid="3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500"/>
                                        <p:tgtEl>
                                          <p:spTgt spid="3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3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3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3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3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2" dur="1000"/>
                                        <p:tgtEl>
                                          <p:spTgt spid="3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6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1065 L 0.15746 0.01065 E">
                                      <p:cBhvr>
                                        <p:cTn id="1757" dur="500" fill="hold"/>
                                        <p:tgtEl>
                                          <p:spTgt spid="3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1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3282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4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3295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3296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7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8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9" name="Rectangle 5"/>
          <p:cNvSpPr/>
          <p:nvPr/>
        </p:nvSpPr>
        <p:spPr>
          <a:xfrm>
            <a:off x="395280" y="3141720"/>
            <a:ext cx="381636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这些橘子分给大班和小班，怎么分合理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Rectangle 7"/>
          <p:cNvSpPr/>
          <p:nvPr/>
        </p:nvSpPr>
        <p:spPr>
          <a:xfrm>
            <a:off x="611280" y="1827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橘子，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比分给两个班，应该怎样分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Rectangle 8"/>
          <p:cNvSpPr/>
          <p:nvPr/>
        </p:nvSpPr>
        <p:spPr>
          <a:xfrm>
            <a:off x="5148360" y="3430440"/>
            <a:ext cx="557280" cy="4320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Rectangle 9"/>
          <p:cNvSpPr/>
          <p:nvPr/>
        </p:nvSpPr>
        <p:spPr>
          <a:xfrm>
            <a:off x="6012000" y="3430440"/>
            <a:ext cx="556920" cy="4320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Rectangle 10"/>
          <p:cNvSpPr/>
          <p:nvPr/>
        </p:nvSpPr>
        <p:spPr>
          <a:xfrm>
            <a:off x="6804000" y="3430440"/>
            <a:ext cx="557280" cy="4320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Rectangle 11"/>
          <p:cNvSpPr/>
          <p:nvPr/>
        </p:nvSpPr>
        <p:spPr>
          <a:xfrm>
            <a:off x="7596360" y="3430440"/>
            <a:ext cx="556920" cy="4320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Rectangle 12"/>
          <p:cNvSpPr/>
          <p:nvPr/>
        </p:nvSpPr>
        <p:spPr>
          <a:xfrm>
            <a:off x="4356000" y="3430440"/>
            <a:ext cx="557280" cy="4320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Line 13"/>
          <p:cNvSpPr/>
          <p:nvPr/>
        </p:nvSpPr>
        <p:spPr>
          <a:xfrm>
            <a:off x="4425840" y="2109960"/>
            <a:ext cx="122400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Line 14"/>
          <p:cNvSpPr/>
          <p:nvPr/>
        </p:nvSpPr>
        <p:spPr>
          <a:xfrm>
            <a:off x="5135400" y="2155680"/>
            <a:ext cx="0" cy="2160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Text Box 15"/>
          <p:cNvSpPr/>
          <p:nvPr/>
        </p:nvSpPr>
        <p:spPr>
          <a:xfrm>
            <a:off x="3964680" y="234936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大班占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份，小班占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AutoShape 17"/>
          <p:cNvSpPr/>
          <p:nvPr/>
        </p:nvSpPr>
        <p:spPr>
          <a:xfrm rot="16200000">
            <a:off x="5472000" y="2960640"/>
            <a:ext cx="71280" cy="2160360"/>
          </a:xfrm>
          <a:custGeom>
            <a:avLst/>
            <a:gdLst>
              <a:gd name="textAreaLeft" fmla="*/ 45720 w 71280"/>
              <a:gd name="textAreaRight" fmla="*/ 71640 w 71280"/>
              <a:gd name="textAreaTop" fmla="*/ 28800 h 2160360"/>
              <a:gd name="textAreaBottom" fmla="*/ 213156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3"/>
                  <a:pt x="10800" y="926"/>
                </a:cubicBezTo>
                <a:lnTo>
                  <a:pt x="10800" y="9874"/>
                </a:lnTo>
                <a:cubicBezTo>
                  <a:pt x="10800" y="10337"/>
                  <a:pt x="5400" y="10800"/>
                  <a:pt x="0" y="10800"/>
                </a:cubicBezTo>
                <a:cubicBezTo>
                  <a:pt x="5400" y="10800"/>
                  <a:pt x="10800" y="11263"/>
                  <a:pt x="10800" y="11726"/>
                </a:cubicBezTo>
                <a:lnTo>
                  <a:pt x="10800" y="20674"/>
                </a:lnTo>
                <a:cubicBezTo>
                  <a:pt x="10800" y="2113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AutoShape 18"/>
          <p:cNvSpPr/>
          <p:nvPr/>
        </p:nvSpPr>
        <p:spPr>
          <a:xfrm rot="16200000">
            <a:off x="7434000" y="3411000"/>
            <a:ext cx="142920" cy="1330560"/>
          </a:xfrm>
          <a:custGeom>
            <a:avLst/>
            <a:gdLst>
              <a:gd name="textAreaLeft" fmla="*/ 91440 w 142920"/>
              <a:gd name="textAreaRight" fmla="*/ 143280 w 142920"/>
              <a:gd name="textAreaTop" fmla="*/ 37440 h 1330560"/>
              <a:gd name="textAreaBottom" fmla="*/ 1293120 h 133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1"/>
                  <a:pt x="10800" y="1942"/>
                </a:cubicBezTo>
                <a:lnTo>
                  <a:pt x="10800" y="8858"/>
                </a:lnTo>
                <a:cubicBezTo>
                  <a:pt x="10800" y="9829"/>
                  <a:pt x="5400" y="10800"/>
                  <a:pt x="0" y="10800"/>
                </a:cubicBezTo>
                <a:cubicBezTo>
                  <a:pt x="5400" y="10800"/>
                  <a:pt x="10800" y="11771"/>
                  <a:pt x="10800" y="12742"/>
                </a:cubicBezTo>
                <a:lnTo>
                  <a:pt x="10800" y="19658"/>
                </a:lnTo>
                <a:cubicBezTo>
                  <a:pt x="10800" y="2062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1" name="Group 19"/>
          <p:cNvGrpSpPr/>
          <p:nvPr/>
        </p:nvGrpSpPr>
        <p:grpSpPr>
          <a:xfrm>
            <a:off x="4750200" y="4149720"/>
            <a:ext cx="1573920" cy="785160"/>
            <a:chOff x="4750200" y="4149720"/>
            <a:chExt cx="1573920" cy="785160"/>
          </a:xfrm>
        </p:grpSpPr>
        <p:sp>
          <p:nvSpPr>
            <p:cNvPr id="3312" name="Text Box 20"/>
            <p:cNvSpPr/>
            <p:nvPr/>
          </p:nvSpPr>
          <p:spPr>
            <a:xfrm>
              <a:off x="4750200" y="4292280"/>
              <a:ext cx="122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大班占  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3" name="Group 21"/>
            <p:cNvGrpSpPr/>
            <p:nvPr/>
          </p:nvGrpSpPr>
          <p:grpSpPr>
            <a:xfrm>
              <a:off x="5809680" y="4149720"/>
              <a:ext cx="514440" cy="785160"/>
              <a:chOff x="5809680" y="4149720"/>
              <a:chExt cx="514440" cy="785160"/>
            </a:xfrm>
          </p:grpSpPr>
          <p:sp>
            <p:nvSpPr>
              <p:cNvPr id="3314" name="Text Box 22"/>
              <p:cNvSpPr/>
              <p:nvPr/>
            </p:nvSpPr>
            <p:spPr>
              <a:xfrm>
                <a:off x="5862960" y="4475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Text Box 23"/>
              <p:cNvSpPr/>
              <p:nvPr/>
            </p:nvSpPr>
            <p:spPr>
              <a:xfrm>
                <a:off x="5862960" y="4149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Line 24"/>
              <p:cNvSpPr/>
              <p:nvPr/>
            </p:nvSpPr>
            <p:spPr>
              <a:xfrm>
                <a:off x="5809680" y="4509000"/>
                <a:ext cx="514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7" name="Group 25"/>
          <p:cNvGrpSpPr/>
          <p:nvPr/>
        </p:nvGrpSpPr>
        <p:grpSpPr>
          <a:xfrm>
            <a:off x="6783840" y="4149720"/>
            <a:ext cx="1474200" cy="702360"/>
            <a:chOff x="6783840" y="4149720"/>
            <a:chExt cx="1474200" cy="702360"/>
          </a:xfrm>
        </p:grpSpPr>
        <p:sp>
          <p:nvSpPr>
            <p:cNvPr id="3318" name="Text Box 26"/>
            <p:cNvSpPr/>
            <p:nvPr/>
          </p:nvSpPr>
          <p:spPr>
            <a:xfrm>
              <a:off x="6783840" y="4244040"/>
              <a:ext cx="122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小班占  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9" name="Group 27"/>
            <p:cNvGrpSpPr/>
            <p:nvPr/>
          </p:nvGrpSpPr>
          <p:grpSpPr>
            <a:xfrm>
              <a:off x="7703640" y="4149720"/>
              <a:ext cx="554400" cy="702360"/>
              <a:chOff x="7703640" y="4149720"/>
              <a:chExt cx="554400" cy="702360"/>
            </a:xfrm>
          </p:grpSpPr>
          <p:sp>
            <p:nvSpPr>
              <p:cNvPr id="3320" name="Text Box 28"/>
              <p:cNvSpPr/>
              <p:nvPr/>
            </p:nvSpPr>
            <p:spPr>
              <a:xfrm>
                <a:off x="7908120" y="4392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Text Box 29"/>
              <p:cNvSpPr/>
              <p:nvPr/>
            </p:nvSpPr>
            <p:spPr>
              <a:xfrm>
                <a:off x="7908120" y="4149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Line 30"/>
              <p:cNvSpPr/>
              <p:nvPr/>
            </p:nvSpPr>
            <p:spPr>
              <a:xfrm>
                <a:off x="7703640" y="4509000"/>
                <a:ext cx="523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3" name="AutoShape 31"/>
          <p:cNvSpPr/>
          <p:nvPr/>
        </p:nvSpPr>
        <p:spPr>
          <a:xfrm flipV="1" rot="5400000">
            <a:off x="6192720" y="1303920"/>
            <a:ext cx="142920" cy="381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67320 h 3816360"/>
              <a:gd name="textAreaBottom" fmla="*/ 374904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1"/>
                  <a:pt x="10800" y="1222"/>
                </a:cubicBezTo>
                <a:lnTo>
                  <a:pt x="10800" y="9731"/>
                </a:lnTo>
                <a:cubicBezTo>
                  <a:pt x="10800" y="10342"/>
                  <a:pt x="5400" y="10953"/>
                  <a:pt x="0" y="10953"/>
                </a:cubicBezTo>
                <a:cubicBezTo>
                  <a:pt x="5400" y="10953"/>
                  <a:pt x="10800" y="11564"/>
                  <a:pt x="10800" y="12175"/>
                </a:cubicBezTo>
                <a:lnTo>
                  <a:pt x="10800" y="20378"/>
                </a:lnTo>
                <a:cubicBezTo>
                  <a:pt x="10800" y="2098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Rectangle 32"/>
          <p:cNvSpPr/>
          <p:nvPr/>
        </p:nvSpPr>
        <p:spPr>
          <a:xfrm>
            <a:off x="5292720" y="2693880"/>
            <a:ext cx="13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Line 36"/>
          <p:cNvSpPr/>
          <p:nvPr/>
        </p:nvSpPr>
        <p:spPr>
          <a:xfrm>
            <a:off x="301680" y="611352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6" name="Group 37"/>
          <p:cNvGrpSpPr/>
          <p:nvPr/>
        </p:nvGrpSpPr>
        <p:grpSpPr>
          <a:xfrm>
            <a:off x="668160" y="4292640"/>
            <a:ext cx="3715200" cy="997200"/>
            <a:chOff x="668160" y="4292640"/>
            <a:chExt cx="3715200" cy="997200"/>
          </a:xfrm>
        </p:grpSpPr>
        <p:sp>
          <p:nvSpPr>
            <p:cNvPr id="3327" name="Text Box 38"/>
            <p:cNvSpPr/>
            <p:nvPr/>
          </p:nvSpPr>
          <p:spPr>
            <a:xfrm>
              <a:off x="668160" y="4556160"/>
              <a:ext cx="37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40×    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＝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84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（个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Text Box 39"/>
            <p:cNvSpPr/>
            <p:nvPr/>
          </p:nvSpPr>
          <p:spPr>
            <a:xfrm>
              <a:off x="1368360" y="4708440"/>
              <a:ext cx="86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3+2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Text Box 40"/>
            <p:cNvSpPr/>
            <p:nvPr/>
          </p:nvSpPr>
          <p:spPr>
            <a:xfrm>
              <a:off x="1254600" y="4292640"/>
              <a:ext cx="7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   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Line 41"/>
            <p:cNvSpPr/>
            <p:nvPr/>
          </p:nvSpPr>
          <p:spPr>
            <a:xfrm>
              <a:off x="1620000" y="4795920"/>
              <a:ext cx="55764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1" name="Text Box 43"/>
          <p:cNvSpPr/>
          <p:nvPr/>
        </p:nvSpPr>
        <p:spPr>
          <a:xfrm>
            <a:off x="739440" y="5372280"/>
            <a:ext cx="37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40×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6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个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Text Box 44"/>
          <p:cNvSpPr/>
          <p:nvPr/>
        </p:nvSpPr>
        <p:spPr>
          <a:xfrm>
            <a:off x="1368720" y="551664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+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Text Box 45"/>
          <p:cNvSpPr/>
          <p:nvPr/>
        </p:nvSpPr>
        <p:spPr>
          <a:xfrm>
            <a:off x="1240560" y="5084640"/>
            <a:ext cx="7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Line 46"/>
          <p:cNvSpPr/>
          <p:nvPr/>
        </p:nvSpPr>
        <p:spPr>
          <a:xfrm>
            <a:off x="1619280" y="5587920"/>
            <a:ext cx="558720" cy="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矩形 63"/>
          <p:cNvSpPr/>
          <p:nvPr/>
        </p:nvSpPr>
        <p:spPr>
          <a:xfrm>
            <a:off x="4788000" y="5373720"/>
            <a:ext cx="35290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配问题的一般思考步骤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什么？有多少？怎样分？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矩形 64"/>
          <p:cNvSpPr/>
          <p:nvPr/>
        </p:nvSpPr>
        <p:spPr>
          <a:xfrm>
            <a:off x="956160" y="1035000"/>
            <a:ext cx="25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按比例分配”的问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8" dur="indefinite" restart="never" nodeType="tmRoot">
          <p:childTnLst>
            <p:seq>
              <p:cTn id="1759" dur="indefinite" nodeType="mainSeq">
                <p:childTnLst>
                  <p:par>
                    <p:cTn id="1760" fill="hold">
                      <p:stCondLst>
                        <p:cond delay="0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4" dur="500"/>
                                        <p:tgtEl>
                                          <p:spTgt spid="3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9" dur="500"/>
                                        <p:tgtEl>
                                          <p:spTgt spid="3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4" dur="500"/>
                                        <p:tgtEl>
                                          <p:spTgt spid="3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500"/>
                                        <p:tgtEl>
                                          <p:spTgt spid="3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3" dur="500"/>
                                        <p:tgtEl>
                                          <p:spTgt spid="3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6" dur="500"/>
                                        <p:tgtEl>
                                          <p:spTgt spid="3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3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500"/>
                            </p:stCondLst>
                            <p:childTnLst>
                              <p:par>
                                <p:cTn id="179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3" dur="500"/>
                                        <p:tgtEl>
                                          <p:spTgt spid="3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6" dur="500"/>
                                        <p:tgtEl>
                                          <p:spTgt spid="3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1" dur="500"/>
                                        <p:tgtEl>
                                          <p:spTgt spid="3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"/>
                            </p:stCondLst>
                            <p:childTnLst>
                              <p:par>
                                <p:cTn id="180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5" dur="500"/>
                                        <p:tgtEl>
                                          <p:spTgt spid="3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0" dur="500"/>
                                        <p:tgtEl>
                                          <p:spTgt spid="3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500"/>
                            </p:stCondLst>
                            <p:childTnLst>
                              <p:par>
                                <p:cTn id="18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4" dur="500"/>
                                        <p:tgtEl>
                                          <p:spTgt spid="3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9" dur="500"/>
                                        <p:tgtEl>
                                          <p:spTgt spid="3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500"/>
                            </p:stCondLst>
                            <p:childTnLst>
                              <p:par>
                                <p:cTn id="18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3" dur="500"/>
                                        <p:tgtEl>
                                          <p:spTgt spid="3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8" dur="500"/>
                                        <p:tgtEl>
                                          <p:spTgt spid="3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3" dur="500"/>
                                        <p:tgtEl>
                                          <p:spTgt spid="3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6" dur="500"/>
                                        <p:tgtEl>
                                          <p:spTgt spid="3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9" dur="500"/>
                                        <p:tgtEl>
                                          <p:spTgt spid="3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0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2" dur="500"/>
                                        <p:tgtEl>
                                          <p:spTgt spid="3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3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5" dur="5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6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8" dur="500"/>
                                        <p:tgtEl>
                                          <p:spTgt spid="3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3" dur="500"/>
                                        <p:tgtEl>
                                          <p:spTgt spid="3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7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3338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50" name="Text Box 29" descr=""/>
          <p:cNvPicPr/>
          <p:nvPr/>
        </p:nvPicPr>
        <p:blipFill>
          <a:blip r:embed="rId1"/>
          <a:stretch/>
        </p:blipFill>
        <p:spPr>
          <a:xfrm>
            <a:off x="285840" y="2071800"/>
            <a:ext cx="7778520" cy="3700440"/>
          </a:xfrm>
          <a:prstGeom prst="rect">
            <a:avLst/>
          </a:prstGeom>
          <a:ln w="0">
            <a:noFill/>
          </a:ln>
        </p:spPr>
      </p:pic>
      <p:grpSp>
        <p:nvGrpSpPr>
          <p:cNvPr id="3351" name="Group 2"/>
          <p:cNvGrpSpPr/>
          <p:nvPr/>
        </p:nvGrpSpPr>
        <p:grpSpPr>
          <a:xfrm>
            <a:off x="6429240" y="357120"/>
            <a:ext cx="2070360" cy="432000"/>
            <a:chOff x="6429240" y="357120"/>
            <a:chExt cx="2070360" cy="432000"/>
          </a:xfrm>
        </p:grpSpPr>
        <p:grpSp>
          <p:nvGrpSpPr>
            <p:cNvPr id="3352" name="Group 3"/>
            <p:cNvGrpSpPr/>
            <p:nvPr/>
          </p:nvGrpSpPr>
          <p:grpSpPr>
            <a:xfrm>
              <a:off x="6429240" y="357120"/>
              <a:ext cx="2070360" cy="432000"/>
              <a:chOff x="6429240" y="357120"/>
              <a:chExt cx="2070360" cy="432000"/>
            </a:xfrm>
          </p:grpSpPr>
          <p:pic>
            <p:nvPicPr>
              <p:cNvPr id="3353" name="五边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9240" y="357120"/>
                <a:ext cx="207036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4" name="Text Box 6"/>
              <p:cNvSpPr/>
              <p:nvPr/>
            </p:nvSpPr>
            <p:spPr>
              <a:xfrm>
                <a:off x="6466320" y="384480"/>
                <a:ext cx="203328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5" name="五边形 4"/>
            <p:cNvSpPr/>
            <p:nvPr/>
          </p:nvSpPr>
          <p:spPr>
            <a:xfrm>
              <a:off x="6466320" y="384480"/>
              <a:ext cx="1813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心灵感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54" dur="indefinite" restart="never" nodeType="tmRoot">
          <p:childTnLst>
            <p:seq>
              <p:cTn id="1855" dur="indefinite" nodeType="mainSeq">
                <p:childTnLst>
                  <p:par>
                    <p:cTn id="1856" fill="hold">
                      <p:stCondLst>
                        <p:cond delay="0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0" dur="1000"/>
                                        <p:tgtEl>
                                          <p:spTgt spid="3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1" name="Group 2"/>
          <p:cNvGrpSpPr/>
          <p:nvPr/>
        </p:nvGrpSpPr>
        <p:grpSpPr>
          <a:xfrm>
            <a:off x="428760" y="857160"/>
            <a:ext cx="6842160" cy="1080720"/>
            <a:chOff x="428760" y="857160"/>
            <a:chExt cx="6842160" cy="1080720"/>
          </a:xfrm>
        </p:grpSpPr>
        <p:sp>
          <p:nvSpPr>
            <p:cNvPr id="2522" name="Oval 3"/>
            <p:cNvSpPr/>
            <p:nvPr/>
          </p:nvSpPr>
          <p:spPr>
            <a:xfrm>
              <a:off x="42876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Oval 4"/>
            <p:cNvSpPr/>
            <p:nvPr/>
          </p:nvSpPr>
          <p:spPr>
            <a:xfrm>
              <a:off x="140652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Oval 5"/>
            <p:cNvSpPr/>
            <p:nvPr/>
          </p:nvSpPr>
          <p:spPr>
            <a:xfrm>
              <a:off x="194148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Oval 6"/>
            <p:cNvSpPr/>
            <p:nvPr/>
          </p:nvSpPr>
          <p:spPr>
            <a:xfrm>
              <a:off x="240516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Oval 7"/>
            <p:cNvSpPr/>
            <p:nvPr/>
          </p:nvSpPr>
          <p:spPr>
            <a:xfrm>
              <a:off x="312912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Oval 8"/>
            <p:cNvSpPr/>
            <p:nvPr/>
          </p:nvSpPr>
          <p:spPr>
            <a:xfrm>
              <a:off x="355608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Oval 9"/>
            <p:cNvSpPr/>
            <p:nvPr/>
          </p:nvSpPr>
          <p:spPr>
            <a:xfrm>
              <a:off x="407016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Oval 10"/>
            <p:cNvSpPr/>
            <p:nvPr/>
          </p:nvSpPr>
          <p:spPr>
            <a:xfrm>
              <a:off x="439272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Oval 11"/>
            <p:cNvSpPr/>
            <p:nvPr/>
          </p:nvSpPr>
          <p:spPr>
            <a:xfrm>
              <a:off x="489276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Oval 12"/>
            <p:cNvSpPr/>
            <p:nvPr/>
          </p:nvSpPr>
          <p:spPr>
            <a:xfrm>
              <a:off x="536112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Oval 13"/>
            <p:cNvSpPr/>
            <p:nvPr/>
          </p:nvSpPr>
          <p:spPr>
            <a:xfrm>
              <a:off x="606600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Oval 14"/>
            <p:cNvSpPr/>
            <p:nvPr/>
          </p:nvSpPr>
          <p:spPr>
            <a:xfrm>
              <a:off x="686016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4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535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536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7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8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观察思考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9" name="Text Box 3"/>
          <p:cNvSpPr/>
          <p:nvPr/>
        </p:nvSpPr>
        <p:spPr>
          <a:xfrm>
            <a:off x="682560" y="170172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分数乘整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0" name="对象 6164" descr=""/>
          <p:cNvPicPr/>
          <p:nvPr/>
        </p:nvPicPr>
        <p:blipFill>
          <a:blip r:embed="rId2"/>
          <a:stretch/>
        </p:blipFill>
        <p:spPr>
          <a:xfrm>
            <a:off x="2568600" y="2367000"/>
            <a:ext cx="1211400" cy="1073160"/>
          </a:xfrm>
          <a:prstGeom prst="rect">
            <a:avLst/>
          </a:prstGeom>
          <a:ln w="0">
            <a:noFill/>
          </a:ln>
        </p:spPr>
      </p:pic>
      <p:pic>
        <p:nvPicPr>
          <p:cNvPr id="2541" name="对象 6165" descr=""/>
          <p:cNvPicPr/>
          <p:nvPr/>
        </p:nvPicPr>
        <p:blipFill>
          <a:blip r:embed="rId3"/>
          <a:stretch/>
        </p:blipFill>
        <p:spPr>
          <a:xfrm>
            <a:off x="3994200" y="2419200"/>
            <a:ext cx="1027080" cy="901800"/>
          </a:xfrm>
          <a:prstGeom prst="rect">
            <a:avLst/>
          </a:prstGeom>
          <a:ln w="0">
            <a:noFill/>
          </a:ln>
        </p:spPr>
      </p:pic>
      <p:sp>
        <p:nvSpPr>
          <p:cNvPr id="2542" name="Line 8"/>
          <p:cNvSpPr/>
          <p:nvPr/>
        </p:nvSpPr>
        <p:spPr>
          <a:xfrm>
            <a:off x="4622760" y="2444760"/>
            <a:ext cx="360360" cy="2890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Line 9"/>
          <p:cNvSpPr/>
          <p:nvPr/>
        </p:nvSpPr>
        <p:spPr>
          <a:xfrm>
            <a:off x="4319640" y="3003480"/>
            <a:ext cx="360360" cy="2872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Text Box 10"/>
          <p:cNvSpPr/>
          <p:nvPr/>
        </p:nvSpPr>
        <p:spPr>
          <a:xfrm>
            <a:off x="4871880" y="227664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Text Box 11"/>
          <p:cNvSpPr/>
          <p:nvPr/>
        </p:nvSpPr>
        <p:spPr>
          <a:xfrm>
            <a:off x="4640400" y="2976480"/>
            <a:ext cx="5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6" name="对象 6170" descr=""/>
          <p:cNvPicPr/>
          <p:nvPr/>
        </p:nvPicPr>
        <p:blipFill>
          <a:blip r:embed="rId4"/>
          <a:stretch/>
        </p:blipFill>
        <p:spPr>
          <a:xfrm>
            <a:off x="5221440" y="2419200"/>
            <a:ext cx="938160" cy="1003320"/>
          </a:xfrm>
          <a:prstGeom prst="rect">
            <a:avLst/>
          </a:prstGeom>
          <a:ln w="0">
            <a:noFill/>
          </a:ln>
        </p:spPr>
      </p:pic>
      <p:sp>
        <p:nvSpPr>
          <p:cNvPr id="2547" name="Text Box 3"/>
          <p:cNvSpPr/>
          <p:nvPr/>
        </p:nvSpPr>
        <p:spPr>
          <a:xfrm>
            <a:off x="758880" y="370044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分数乘分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8" name="对象 6172" descr=""/>
          <p:cNvPicPr/>
          <p:nvPr/>
        </p:nvPicPr>
        <p:blipFill>
          <a:blip r:embed="rId5"/>
          <a:stretch/>
        </p:blipFill>
        <p:spPr>
          <a:xfrm>
            <a:off x="2550960" y="4653000"/>
            <a:ext cx="1425600" cy="1163520"/>
          </a:xfrm>
          <a:prstGeom prst="rect">
            <a:avLst/>
          </a:prstGeom>
          <a:ln w="0">
            <a:noFill/>
          </a:ln>
        </p:spPr>
      </p:pic>
      <p:pic>
        <p:nvPicPr>
          <p:cNvPr id="2549" name="对象 6173" descr=""/>
          <p:cNvPicPr/>
          <p:nvPr/>
        </p:nvPicPr>
        <p:blipFill>
          <a:blip r:embed="rId6"/>
          <a:stretch/>
        </p:blipFill>
        <p:spPr>
          <a:xfrm>
            <a:off x="3995640" y="4722840"/>
            <a:ext cx="1138320" cy="961920"/>
          </a:xfrm>
          <a:prstGeom prst="rect">
            <a:avLst/>
          </a:prstGeom>
          <a:ln w="0">
            <a:noFill/>
          </a:ln>
        </p:spPr>
      </p:pic>
      <p:sp>
        <p:nvSpPr>
          <p:cNvPr id="2550" name="Line 8"/>
          <p:cNvSpPr/>
          <p:nvPr/>
        </p:nvSpPr>
        <p:spPr>
          <a:xfrm>
            <a:off x="4605480" y="4821120"/>
            <a:ext cx="360360" cy="2890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Line 9"/>
          <p:cNvSpPr/>
          <p:nvPr/>
        </p:nvSpPr>
        <p:spPr>
          <a:xfrm>
            <a:off x="3995640" y="5372280"/>
            <a:ext cx="360360" cy="2872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Text Box 10"/>
          <p:cNvSpPr/>
          <p:nvPr/>
        </p:nvSpPr>
        <p:spPr>
          <a:xfrm>
            <a:off x="4854600" y="456408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Text Box 11"/>
          <p:cNvSpPr/>
          <p:nvPr/>
        </p:nvSpPr>
        <p:spPr>
          <a:xfrm>
            <a:off x="3817800" y="5510160"/>
            <a:ext cx="5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4" name="对象 6178" descr=""/>
          <p:cNvPicPr/>
          <p:nvPr/>
        </p:nvPicPr>
        <p:blipFill>
          <a:blip r:embed="rId7"/>
          <a:stretch/>
        </p:blipFill>
        <p:spPr>
          <a:xfrm>
            <a:off x="5203800" y="4645080"/>
            <a:ext cx="1079640" cy="11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1000"/>
                                        <p:tgtEl>
                                          <p:spTgt spid="2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1000"/>
                                        <p:tgtEl>
                                          <p:spTgt spid="2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1000"/>
                                        <p:tgtEl>
                                          <p:spTgt spid="2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1000"/>
                                        <p:tgtEl>
                                          <p:spTgt spid="2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1000"/>
                                        <p:tgtEl>
                                          <p:spTgt spid="2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1000"/>
                                        <p:tgtEl>
                                          <p:spTgt spid="2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1000"/>
                                        <p:tgtEl>
                                          <p:spTgt spid="2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2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2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2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2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2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2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2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5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556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8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569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570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1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2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3" name="Text Box 3"/>
          <p:cNvSpPr/>
          <p:nvPr/>
        </p:nvSpPr>
        <p:spPr>
          <a:xfrm>
            <a:off x="466560" y="170028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分数乘小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4" name="对象 7188" descr=""/>
          <p:cNvPicPr/>
          <p:nvPr/>
        </p:nvPicPr>
        <p:blipFill>
          <a:blip r:embed="rId2"/>
          <a:stretch/>
        </p:blipFill>
        <p:spPr>
          <a:xfrm>
            <a:off x="2735280" y="2349360"/>
            <a:ext cx="1147680" cy="792360"/>
          </a:xfrm>
          <a:prstGeom prst="rect">
            <a:avLst/>
          </a:prstGeom>
          <a:ln w="0">
            <a:noFill/>
          </a:ln>
        </p:spPr>
      </p:pic>
      <p:sp>
        <p:nvSpPr>
          <p:cNvPr id="2575" name="Text Box 5"/>
          <p:cNvSpPr/>
          <p:nvPr/>
        </p:nvSpPr>
        <p:spPr>
          <a:xfrm>
            <a:off x="647640" y="24224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计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6" name="对象 7190" descr=""/>
          <p:cNvPicPr/>
          <p:nvPr/>
        </p:nvPicPr>
        <p:blipFill>
          <a:blip r:embed="rId3"/>
          <a:stretch/>
        </p:blipFill>
        <p:spPr>
          <a:xfrm>
            <a:off x="1295280" y="3500280"/>
            <a:ext cx="1368720" cy="943200"/>
          </a:xfrm>
          <a:prstGeom prst="rect">
            <a:avLst/>
          </a:prstGeom>
          <a:ln w="0">
            <a:noFill/>
          </a:ln>
        </p:spPr>
      </p:pic>
      <p:pic>
        <p:nvPicPr>
          <p:cNvPr id="2577" name="对象 7191" descr=""/>
          <p:cNvPicPr/>
          <p:nvPr/>
        </p:nvPicPr>
        <p:blipFill>
          <a:blip r:embed="rId4"/>
          <a:stretch/>
        </p:blipFill>
        <p:spPr>
          <a:xfrm>
            <a:off x="2664000" y="3500280"/>
            <a:ext cx="1431720" cy="960480"/>
          </a:xfrm>
          <a:prstGeom prst="rect">
            <a:avLst/>
          </a:prstGeom>
          <a:ln w="0">
            <a:noFill/>
          </a:ln>
        </p:spPr>
      </p:pic>
      <p:sp>
        <p:nvSpPr>
          <p:cNvPr id="2578" name="Line 8"/>
          <p:cNvSpPr/>
          <p:nvPr/>
        </p:nvSpPr>
        <p:spPr>
          <a:xfrm>
            <a:off x="2664000" y="3571920"/>
            <a:ext cx="649080" cy="2887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Line 9"/>
          <p:cNvSpPr/>
          <p:nvPr/>
        </p:nvSpPr>
        <p:spPr>
          <a:xfrm>
            <a:off x="3168720" y="4076640"/>
            <a:ext cx="358560" cy="2872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Text Box 10"/>
          <p:cNvSpPr/>
          <p:nvPr/>
        </p:nvSpPr>
        <p:spPr>
          <a:xfrm>
            <a:off x="2738520" y="313992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0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Text Box 11"/>
          <p:cNvSpPr/>
          <p:nvPr/>
        </p:nvSpPr>
        <p:spPr>
          <a:xfrm>
            <a:off x="3456000" y="414828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2" name="对象 7196" descr=""/>
          <p:cNvPicPr/>
          <p:nvPr/>
        </p:nvPicPr>
        <p:blipFill>
          <a:blip r:embed="rId5"/>
          <a:stretch/>
        </p:blipFill>
        <p:spPr>
          <a:xfrm>
            <a:off x="2305080" y="4653000"/>
            <a:ext cx="1197000" cy="431640"/>
          </a:xfrm>
          <a:prstGeom prst="rect">
            <a:avLst/>
          </a:prstGeom>
          <a:ln w="0">
            <a:noFill/>
          </a:ln>
        </p:spPr>
      </p:pic>
      <p:pic>
        <p:nvPicPr>
          <p:cNvPr id="2583" name="对象 7197" descr=""/>
          <p:cNvPicPr/>
          <p:nvPr/>
        </p:nvPicPr>
        <p:blipFill>
          <a:blip r:embed="rId6"/>
          <a:stretch/>
        </p:blipFill>
        <p:spPr>
          <a:xfrm>
            <a:off x="5111640" y="3500280"/>
            <a:ext cx="1368360" cy="944640"/>
          </a:xfrm>
          <a:prstGeom prst="rect">
            <a:avLst/>
          </a:prstGeom>
          <a:ln w="0">
            <a:noFill/>
          </a:ln>
        </p:spPr>
      </p:pic>
      <p:pic>
        <p:nvPicPr>
          <p:cNvPr id="2584" name="对象 7198" descr=""/>
          <p:cNvPicPr/>
          <p:nvPr/>
        </p:nvPicPr>
        <p:blipFill>
          <a:blip r:embed="rId7"/>
          <a:stretch/>
        </p:blipFill>
        <p:spPr>
          <a:xfrm>
            <a:off x="6553080" y="3573360"/>
            <a:ext cx="1432080" cy="960480"/>
          </a:xfrm>
          <a:prstGeom prst="rect">
            <a:avLst/>
          </a:prstGeom>
          <a:ln w="0">
            <a:noFill/>
          </a:ln>
        </p:spPr>
      </p:pic>
      <p:sp>
        <p:nvSpPr>
          <p:cNvPr id="2585" name="Line 15"/>
          <p:cNvSpPr/>
          <p:nvPr/>
        </p:nvSpPr>
        <p:spPr>
          <a:xfrm>
            <a:off x="6624720" y="3573360"/>
            <a:ext cx="431640" cy="360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Text Box 16"/>
          <p:cNvSpPr/>
          <p:nvPr/>
        </p:nvSpPr>
        <p:spPr>
          <a:xfrm>
            <a:off x="6551640" y="321300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Text Box 17"/>
          <p:cNvSpPr/>
          <p:nvPr/>
        </p:nvSpPr>
        <p:spPr>
          <a:xfrm>
            <a:off x="7702560" y="407664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8" name="对象 7202" descr=""/>
          <p:cNvPicPr/>
          <p:nvPr/>
        </p:nvPicPr>
        <p:blipFill>
          <a:blip r:embed="rId8"/>
          <a:stretch/>
        </p:blipFill>
        <p:spPr>
          <a:xfrm>
            <a:off x="6191280" y="4581360"/>
            <a:ext cx="1111320" cy="960480"/>
          </a:xfrm>
          <a:prstGeom prst="rect">
            <a:avLst/>
          </a:prstGeom>
          <a:ln w="0">
            <a:noFill/>
          </a:ln>
        </p:spPr>
      </p:pic>
      <p:sp>
        <p:nvSpPr>
          <p:cNvPr id="2589" name="Line 19"/>
          <p:cNvSpPr/>
          <p:nvPr/>
        </p:nvSpPr>
        <p:spPr>
          <a:xfrm>
            <a:off x="4535640" y="3068640"/>
            <a:ext cx="1440" cy="252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Line 20"/>
          <p:cNvSpPr/>
          <p:nvPr/>
        </p:nvSpPr>
        <p:spPr>
          <a:xfrm>
            <a:off x="7488360" y="4076640"/>
            <a:ext cx="360360" cy="2890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1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592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4" name="Text Box 3"/>
          <p:cNvSpPr/>
          <p:nvPr/>
        </p:nvSpPr>
        <p:spPr>
          <a:xfrm>
            <a:off x="684360" y="13255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练一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5" name="对象 8207" descr=""/>
          <p:cNvPicPr/>
          <p:nvPr/>
        </p:nvPicPr>
        <p:blipFill>
          <a:blip r:embed="rId1"/>
          <a:stretch/>
        </p:blipFill>
        <p:spPr>
          <a:xfrm>
            <a:off x="1260360" y="2217600"/>
            <a:ext cx="1006560" cy="868680"/>
          </a:xfrm>
          <a:prstGeom prst="rect">
            <a:avLst/>
          </a:prstGeom>
          <a:ln w="0">
            <a:noFill/>
          </a:ln>
        </p:spPr>
      </p:pic>
      <p:pic>
        <p:nvPicPr>
          <p:cNvPr id="2606" name="对象 8208" descr=""/>
          <p:cNvPicPr/>
          <p:nvPr/>
        </p:nvPicPr>
        <p:blipFill>
          <a:blip r:embed="rId2"/>
          <a:stretch/>
        </p:blipFill>
        <p:spPr>
          <a:xfrm>
            <a:off x="3633840" y="2205000"/>
            <a:ext cx="950760" cy="868320"/>
          </a:xfrm>
          <a:prstGeom prst="rect">
            <a:avLst/>
          </a:prstGeom>
          <a:ln w="0">
            <a:noFill/>
          </a:ln>
        </p:spPr>
      </p:pic>
      <p:pic>
        <p:nvPicPr>
          <p:cNvPr id="2607" name="对象 8209" descr=""/>
          <p:cNvPicPr/>
          <p:nvPr/>
        </p:nvPicPr>
        <p:blipFill>
          <a:blip r:embed="rId3"/>
          <a:stretch/>
        </p:blipFill>
        <p:spPr>
          <a:xfrm>
            <a:off x="5937120" y="2217600"/>
            <a:ext cx="1065240" cy="868680"/>
          </a:xfrm>
          <a:prstGeom prst="rect">
            <a:avLst/>
          </a:prstGeom>
          <a:ln w="0">
            <a:noFill/>
          </a:ln>
        </p:spPr>
      </p:pic>
      <p:pic>
        <p:nvPicPr>
          <p:cNvPr id="2608" name="对象 8210" descr=""/>
          <p:cNvPicPr/>
          <p:nvPr/>
        </p:nvPicPr>
        <p:blipFill>
          <a:blip r:embed="rId4"/>
          <a:stretch/>
        </p:blipFill>
        <p:spPr>
          <a:xfrm>
            <a:off x="1260360" y="3370320"/>
            <a:ext cx="1233720" cy="868320"/>
          </a:xfrm>
          <a:prstGeom prst="rect">
            <a:avLst/>
          </a:prstGeom>
          <a:ln w="0">
            <a:noFill/>
          </a:ln>
        </p:spPr>
      </p:pic>
      <p:pic>
        <p:nvPicPr>
          <p:cNvPr id="2609" name="对象 8211" descr=""/>
          <p:cNvPicPr/>
          <p:nvPr/>
        </p:nvPicPr>
        <p:blipFill>
          <a:blip r:embed="rId5"/>
          <a:stretch/>
        </p:blipFill>
        <p:spPr>
          <a:xfrm>
            <a:off x="3564000" y="3370320"/>
            <a:ext cx="1177920" cy="868320"/>
          </a:xfrm>
          <a:prstGeom prst="rect">
            <a:avLst/>
          </a:prstGeom>
          <a:ln w="0">
            <a:noFill/>
          </a:ln>
        </p:spPr>
      </p:pic>
      <p:pic>
        <p:nvPicPr>
          <p:cNvPr id="2610" name="对象 8212" descr=""/>
          <p:cNvPicPr/>
          <p:nvPr/>
        </p:nvPicPr>
        <p:blipFill>
          <a:blip r:embed="rId6"/>
          <a:stretch/>
        </p:blipFill>
        <p:spPr>
          <a:xfrm>
            <a:off x="5940360" y="3370320"/>
            <a:ext cx="1063800" cy="868320"/>
          </a:xfrm>
          <a:prstGeom prst="rect">
            <a:avLst/>
          </a:prstGeom>
          <a:ln w="0">
            <a:noFill/>
          </a:ln>
        </p:spPr>
      </p:pic>
      <p:pic>
        <p:nvPicPr>
          <p:cNvPr id="2611" name="对象 8213" descr=""/>
          <p:cNvPicPr/>
          <p:nvPr/>
        </p:nvPicPr>
        <p:blipFill>
          <a:blip r:embed="rId7"/>
          <a:stretch/>
        </p:blipFill>
        <p:spPr>
          <a:xfrm>
            <a:off x="1260360" y="4594320"/>
            <a:ext cx="1371600" cy="868320"/>
          </a:xfrm>
          <a:prstGeom prst="rect">
            <a:avLst/>
          </a:prstGeom>
          <a:ln w="0">
            <a:noFill/>
          </a:ln>
        </p:spPr>
      </p:pic>
      <p:pic>
        <p:nvPicPr>
          <p:cNvPr id="2612" name="对象 8214" descr=""/>
          <p:cNvPicPr/>
          <p:nvPr/>
        </p:nvPicPr>
        <p:blipFill>
          <a:blip r:embed="rId8"/>
          <a:stretch/>
        </p:blipFill>
        <p:spPr>
          <a:xfrm>
            <a:off x="3564000" y="4594320"/>
            <a:ext cx="1566720" cy="868320"/>
          </a:xfrm>
          <a:prstGeom prst="rect">
            <a:avLst/>
          </a:prstGeom>
          <a:ln w="0">
            <a:noFill/>
          </a:ln>
        </p:spPr>
      </p:pic>
      <p:pic>
        <p:nvPicPr>
          <p:cNvPr id="2613" name="对象 8215" descr=""/>
          <p:cNvPicPr/>
          <p:nvPr/>
        </p:nvPicPr>
        <p:blipFill>
          <a:blip r:embed="rId9"/>
          <a:stretch/>
        </p:blipFill>
        <p:spPr>
          <a:xfrm>
            <a:off x="2268360" y="2217600"/>
            <a:ext cx="335160" cy="868680"/>
          </a:xfrm>
          <a:prstGeom prst="rect">
            <a:avLst/>
          </a:prstGeom>
          <a:ln w="0">
            <a:noFill/>
          </a:ln>
        </p:spPr>
      </p:pic>
      <p:pic>
        <p:nvPicPr>
          <p:cNvPr id="2614" name="对象 8216" descr=""/>
          <p:cNvPicPr/>
          <p:nvPr/>
        </p:nvPicPr>
        <p:blipFill>
          <a:blip r:embed="rId10"/>
          <a:stretch/>
        </p:blipFill>
        <p:spPr>
          <a:xfrm>
            <a:off x="4716360" y="3370320"/>
            <a:ext cx="335160" cy="868320"/>
          </a:xfrm>
          <a:prstGeom prst="rect">
            <a:avLst/>
          </a:prstGeom>
          <a:ln w="0">
            <a:noFill/>
          </a:ln>
        </p:spPr>
      </p:pic>
      <p:pic>
        <p:nvPicPr>
          <p:cNvPr id="2615" name="对象 8217" descr=""/>
          <p:cNvPicPr/>
          <p:nvPr/>
        </p:nvPicPr>
        <p:blipFill>
          <a:blip r:embed="rId11"/>
          <a:stretch/>
        </p:blipFill>
        <p:spPr>
          <a:xfrm>
            <a:off x="4645080" y="2217600"/>
            <a:ext cx="334800" cy="868680"/>
          </a:xfrm>
          <a:prstGeom prst="rect">
            <a:avLst/>
          </a:prstGeom>
          <a:ln w="0">
            <a:noFill/>
          </a:ln>
        </p:spPr>
      </p:pic>
      <p:pic>
        <p:nvPicPr>
          <p:cNvPr id="2616" name="对象 8218" descr=""/>
          <p:cNvPicPr/>
          <p:nvPr/>
        </p:nvPicPr>
        <p:blipFill>
          <a:blip r:embed="rId12"/>
          <a:stretch/>
        </p:blipFill>
        <p:spPr>
          <a:xfrm>
            <a:off x="7093080" y="3370320"/>
            <a:ext cx="476280" cy="868320"/>
          </a:xfrm>
          <a:prstGeom prst="rect">
            <a:avLst/>
          </a:prstGeom>
          <a:ln w="0">
            <a:noFill/>
          </a:ln>
        </p:spPr>
      </p:pic>
      <p:pic>
        <p:nvPicPr>
          <p:cNvPr id="2617" name="对象 8219" descr=""/>
          <p:cNvPicPr/>
          <p:nvPr/>
        </p:nvPicPr>
        <p:blipFill>
          <a:blip r:embed="rId13"/>
          <a:stretch/>
        </p:blipFill>
        <p:spPr>
          <a:xfrm>
            <a:off x="6948360" y="2217600"/>
            <a:ext cx="336600" cy="868680"/>
          </a:xfrm>
          <a:prstGeom prst="rect">
            <a:avLst/>
          </a:prstGeom>
          <a:ln w="0">
            <a:noFill/>
          </a:ln>
        </p:spPr>
      </p:pic>
      <p:pic>
        <p:nvPicPr>
          <p:cNvPr id="2618" name="对象 8220" descr=""/>
          <p:cNvPicPr/>
          <p:nvPr/>
        </p:nvPicPr>
        <p:blipFill>
          <a:blip r:embed="rId14"/>
          <a:stretch/>
        </p:blipFill>
        <p:spPr>
          <a:xfrm>
            <a:off x="2700360" y="4594320"/>
            <a:ext cx="447480" cy="868320"/>
          </a:xfrm>
          <a:prstGeom prst="rect">
            <a:avLst/>
          </a:prstGeom>
          <a:ln w="0">
            <a:noFill/>
          </a:ln>
        </p:spPr>
      </p:pic>
      <p:pic>
        <p:nvPicPr>
          <p:cNvPr id="2619" name="对象 8221" descr=""/>
          <p:cNvPicPr/>
          <p:nvPr/>
        </p:nvPicPr>
        <p:blipFill>
          <a:blip r:embed="rId15"/>
          <a:stretch/>
        </p:blipFill>
        <p:spPr>
          <a:xfrm>
            <a:off x="2556000" y="3586320"/>
            <a:ext cx="531720" cy="390240"/>
          </a:xfrm>
          <a:prstGeom prst="rect">
            <a:avLst/>
          </a:prstGeom>
          <a:ln w="0">
            <a:noFill/>
          </a:ln>
        </p:spPr>
      </p:pic>
      <p:pic>
        <p:nvPicPr>
          <p:cNvPr id="2620" name="对象 8222" descr=""/>
          <p:cNvPicPr/>
          <p:nvPr/>
        </p:nvPicPr>
        <p:blipFill>
          <a:blip r:embed="rId16"/>
          <a:stretch/>
        </p:blipFill>
        <p:spPr>
          <a:xfrm>
            <a:off x="5148360" y="4594320"/>
            <a:ext cx="309600" cy="869760"/>
          </a:xfrm>
          <a:prstGeom prst="rect">
            <a:avLst/>
          </a:prstGeom>
          <a:ln w="0">
            <a:noFill/>
          </a:ln>
        </p:spPr>
      </p:pic>
      <p:grpSp>
        <p:nvGrpSpPr>
          <p:cNvPr id="2621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622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623" name="五边形 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4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5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练习巩固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6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627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9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640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641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2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3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4" name="Rectangle 2"/>
          <p:cNvSpPr/>
          <p:nvPr/>
        </p:nvSpPr>
        <p:spPr>
          <a:xfrm>
            <a:off x="108000" y="1353960"/>
            <a:ext cx="48974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分数除法的计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Text Box 7"/>
          <p:cNvSpPr/>
          <p:nvPr/>
        </p:nvSpPr>
        <p:spPr>
          <a:xfrm>
            <a:off x="1979640" y="2060640"/>
            <a:ext cx="59990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乘积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两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互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倒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6" name="Picture 8" descr="11"/>
          <p:cNvPicPr/>
          <p:nvPr/>
        </p:nvPicPr>
        <p:blipFill>
          <a:blip r:embed="rId2"/>
          <a:stretch/>
        </p:blipFill>
        <p:spPr>
          <a:xfrm>
            <a:off x="322200" y="3235320"/>
            <a:ext cx="8062920" cy="1871640"/>
          </a:xfrm>
          <a:prstGeom prst="rect">
            <a:avLst/>
          </a:prstGeom>
          <a:ln w="0">
            <a:noFill/>
          </a:ln>
        </p:spPr>
      </p:pic>
      <p:sp>
        <p:nvSpPr>
          <p:cNvPr id="2647" name="Text Box 9"/>
          <p:cNvSpPr/>
          <p:nvPr/>
        </p:nvSpPr>
        <p:spPr>
          <a:xfrm>
            <a:off x="611280" y="2708280"/>
            <a:ext cx="43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找出下面各数的倒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8" name="对象 9239" descr=""/>
          <p:cNvPicPr/>
          <p:nvPr/>
        </p:nvPicPr>
        <p:blipFill>
          <a:blip r:embed="rId3">
            <a:alphaModFix amt="48000"/>
          </a:blip>
          <a:stretch/>
        </p:blipFill>
        <p:spPr>
          <a:xfrm>
            <a:off x="2001960" y="3378240"/>
            <a:ext cx="288720" cy="745920"/>
          </a:xfrm>
          <a:prstGeom prst="rect">
            <a:avLst/>
          </a:prstGeom>
          <a:ln w="0">
            <a:noFill/>
          </a:ln>
        </p:spPr>
      </p:pic>
      <p:pic>
        <p:nvPicPr>
          <p:cNvPr id="2649" name="对象 9240" descr=""/>
          <p:cNvPicPr/>
          <p:nvPr/>
        </p:nvPicPr>
        <p:blipFill>
          <a:blip r:embed="rId4">
            <a:alphaModFix amt="48000"/>
          </a:blip>
          <a:stretch/>
        </p:blipFill>
        <p:spPr>
          <a:xfrm>
            <a:off x="4962600" y="3378240"/>
            <a:ext cx="288720" cy="745920"/>
          </a:xfrm>
          <a:prstGeom prst="rect">
            <a:avLst/>
          </a:prstGeom>
          <a:ln w="0">
            <a:noFill/>
          </a:ln>
        </p:spPr>
      </p:pic>
      <p:pic>
        <p:nvPicPr>
          <p:cNvPr id="2650" name="对象 9241" descr=""/>
          <p:cNvPicPr/>
          <p:nvPr/>
        </p:nvPicPr>
        <p:blipFill>
          <a:blip r:embed="rId5">
            <a:alphaModFix amt="48000"/>
          </a:blip>
          <a:stretch/>
        </p:blipFill>
        <p:spPr>
          <a:xfrm>
            <a:off x="7788240" y="3378240"/>
            <a:ext cx="265320" cy="745920"/>
          </a:xfrm>
          <a:prstGeom prst="rect">
            <a:avLst/>
          </a:prstGeom>
          <a:ln w="0">
            <a:noFill/>
          </a:ln>
        </p:spPr>
      </p:pic>
      <p:pic>
        <p:nvPicPr>
          <p:cNvPr id="2651" name="对象 9242" descr=""/>
          <p:cNvPicPr/>
          <p:nvPr/>
        </p:nvPicPr>
        <p:blipFill>
          <a:blip r:embed="rId6">
            <a:alphaModFix amt="48000"/>
          </a:blip>
          <a:stretch/>
        </p:blipFill>
        <p:spPr>
          <a:xfrm>
            <a:off x="2048040" y="4459320"/>
            <a:ext cx="168120" cy="312840"/>
          </a:xfrm>
          <a:prstGeom prst="rect">
            <a:avLst/>
          </a:prstGeom>
          <a:ln w="0">
            <a:noFill/>
          </a:ln>
        </p:spPr>
      </p:pic>
      <p:pic>
        <p:nvPicPr>
          <p:cNvPr id="2652" name="对象 9243" descr=""/>
          <p:cNvPicPr/>
          <p:nvPr/>
        </p:nvPicPr>
        <p:blipFill>
          <a:blip r:embed="rId7">
            <a:alphaModFix amt="48000"/>
          </a:blip>
          <a:stretch/>
        </p:blipFill>
        <p:spPr>
          <a:xfrm>
            <a:off x="4929120" y="4243320"/>
            <a:ext cx="271440" cy="744480"/>
          </a:xfrm>
          <a:prstGeom prst="rect">
            <a:avLst/>
          </a:prstGeom>
          <a:ln w="0">
            <a:noFill/>
          </a:ln>
        </p:spPr>
      </p:pic>
      <p:pic>
        <p:nvPicPr>
          <p:cNvPr id="2653" name="对象 9244" descr=""/>
          <p:cNvPicPr/>
          <p:nvPr/>
        </p:nvPicPr>
        <p:blipFill>
          <a:blip r:embed="rId8">
            <a:alphaModFix amt="48000"/>
          </a:blip>
          <a:stretch/>
        </p:blipFill>
        <p:spPr>
          <a:xfrm>
            <a:off x="7953480" y="4459320"/>
            <a:ext cx="241200" cy="312840"/>
          </a:xfrm>
          <a:prstGeom prst="rect">
            <a:avLst/>
          </a:prstGeom>
          <a:ln w="0">
            <a:noFill/>
          </a:ln>
        </p:spPr>
      </p:pic>
      <p:pic>
        <p:nvPicPr>
          <p:cNvPr id="2654" name="Picture 16" descr="2"/>
          <p:cNvPicPr/>
          <p:nvPr/>
        </p:nvPicPr>
        <p:blipFill>
          <a:blip r:embed="rId9"/>
          <a:stretch/>
        </p:blipFill>
        <p:spPr>
          <a:xfrm>
            <a:off x="609480" y="4960800"/>
            <a:ext cx="7745400" cy="863640"/>
          </a:xfrm>
          <a:prstGeom prst="rect">
            <a:avLst/>
          </a:prstGeom>
          <a:ln w="0">
            <a:noFill/>
          </a:ln>
        </p:spPr>
      </p:pic>
      <p:pic>
        <p:nvPicPr>
          <p:cNvPr id="2655" name="对象 9246" descr=""/>
          <p:cNvPicPr/>
          <p:nvPr/>
        </p:nvPicPr>
        <p:blipFill>
          <a:blip r:embed="rId10">
            <a:alphaModFix amt="48000"/>
          </a:blip>
          <a:stretch/>
        </p:blipFill>
        <p:spPr>
          <a:xfrm>
            <a:off x="2336760" y="5248440"/>
            <a:ext cx="241200" cy="312480"/>
          </a:xfrm>
          <a:prstGeom prst="rect">
            <a:avLst/>
          </a:prstGeom>
          <a:ln w="0">
            <a:noFill/>
          </a:ln>
        </p:spPr>
      </p:pic>
      <p:pic>
        <p:nvPicPr>
          <p:cNvPr id="2656" name="对象 9247" descr=""/>
          <p:cNvPicPr/>
          <p:nvPr/>
        </p:nvPicPr>
        <p:blipFill>
          <a:blip r:embed="rId11">
            <a:alphaModFix amt="48000"/>
          </a:blip>
          <a:stretch/>
        </p:blipFill>
        <p:spPr>
          <a:xfrm>
            <a:off x="3954600" y="5032440"/>
            <a:ext cx="288720" cy="745920"/>
          </a:xfrm>
          <a:prstGeom prst="rect">
            <a:avLst/>
          </a:prstGeom>
          <a:ln w="0">
            <a:noFill/>
          </a:ln>
        </p:spPr>
      </p:pic>
      <p:pic>
        <p:nvPicPr>
          <p:cNvPr id="2657" name="对象 9248" descr=""/>
          <p:cNvPicPr/>
          <p:nvPr/>
        </p:nvPicPr>
        <p:blipFill>
          <a:blip r:embed="rId12">
            <a:alphaModFix amt="48000"/>
          </a:blip>
          <a:stretch/>
        </p:blipFill>
        <p:spPr>
          <a:xfrm>
            <a:off x="5648400" y="5032440"/>
            <a:ext cx="288720" cy="745920"/>
          </a:xfrm>
          <a:prstGeom prst="rect">
            <a:avLst/>
          </a:prstGeom>
          <a:ln w="0">
            <a:noFill/>
          </a:ln>
        </p:spPr>
      </p:pic>
      <p:pic>
        <p:nvPicPr>
          <p:cNvPr id="2658" name="对象 9249" descr=""/>
          <p:cNvPicPr/>
          <p:nvPr/>
        </p:nvPicPr>
        <p:blipFill>
          <a:blip r:embed="rId13">
            <a:alphaModFix amt="48000"/>
          </a:blip>
          <a:stretch/>
        </p:blipFill>
        <p:spPr>
          <a:xfrm>
            <a:off x="7377120" y="5176800"/>
            <a:ext cx="241200" cy="31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2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2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9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660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2" name="Rectangle 2"/>
          <p:cNvSpPr/>
          <p:nvPr/>
        </p:nvSpPr>
        <p:spPr>
          <a:xfrm>
            <a:off x="250920" y="1268280"/>
            <a:ext cx="2378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计算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Text Box 6"/>
          <p:cNvSpPr/>
          <p:nvPr/>
        </p:nvSpPr>
        <p:spPr>
          <a:xfrm>
            <a:off x="2050920" y="1628640"/>
            <a:ext cx="59770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除以一个数等于乘这个数的倒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Text Box 3"/>
          <p:cNvSpPr/>
          <p:nvPr/>
        </p:nvSpPr>
        <p:spPr>
          <a:xfrm>
            <a:off x="755640" y="2276640"/>
            <a:ext cx="46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分数除以整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5" name="对象 10257" descr=""/>
          <p:cNvPicPr/>
          <p:nvPr/>
        </p:nvPicPr>
        <p:blipFill>
          <a:blip r:embed="rId1"/>
          <a:stretch/>
        </p:blipFill>
        <p:spPr>
          <a:xfrm>
            <a:off x="3780000" y="3005280"/>
            <a:ext cx="1184040" cy="1079280"/>
          </a:xfrm>
          <a:prstGeom prst="rect">
            <a:avLst/>
          </a:prstGeom>
          <a:ln w="0">
            <a:noFill/>
          </a:ln>
        </p:spPr>
      </p:pic>
      <p:sp>
        <p:nvSpPr>
          <p:cNvPr id="2676" name="Line 7"/>
          <p:cNvSpPr/>
          <p:nvPr/>
        </p:nvSpPr>
        <p:spPr>
          <a:xfrm>
            <a:off x="3852720" y="3139920"/>
            <a:ext cx="358920" cy="2890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Line 8"/>
          <p:cNvSpPr/>
          <p:nvPr/>
        </p:nvSpPr>
        <p:spPr>
          <a:xfrm>
            <a:off x="4572000" y="3716280"/>
            <a:ext cx="360360" cy="2890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Text Box 9"/>
          <p:cNvSpPr/>
          <p:nvPr/>
        </p:nvSpPr>
        <p:spPr>
          <a:xfrm>
            <a:off x="4002120" y="278136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Text Box 10"/>
          <p:cNvSpPr/>
          <p:nvPr/>
        </p:nvSpPr>
        <p:spPr>
          <a:xfrm>
            <a:off x="4643280" y="393228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0" name="对象 10262" descr=""/>
          <p:cNvPicPr/>
          <p:nvPr/>
        </p:nvPicPr>
        <p:blipFill>
          <a:blip r:embed="rId2"/>
          <a:stretch/>
        </p:blipFill>
        <p:spPr>
          <a:xfrm>
            <a:off x="5005440" y="2997360"/>
            <a:ext cx="1209600" cy="1008000"/>
          </a:xfrm>
          <a:prstGeom prst="rect">
            <a:avLst/>
          </a:prstGeom>
          <a:ln w="0">
            <a:noFill/>
          </a:ln>
        </p:spPr>
      </p:pic>
      <p:pic>
        <p:nvPicPr>
          <p:cNvPr id="2681" name="对象 10263" descr=""/>
          <p:cNvPicPr/>
          <p:nvPr/>
        </p:nvPicPr>
        <p:blipFill>
          <a:blip r:embed="rId3"/>
          <a:stretch/>
        </p:blipFill>
        <p:spPr>
          <a:xfrm>
            <a:off x="2413080" y="2997360"/>
            <a:ext cx="1439640" cy="1062000"/>
          </a:xfrm>
          <a:prstGeom prst="rect">
            <a:avLst/>
          </a:prstGeom>
          <a:ln w="0">
            <a:noFill/>
          </a:ln>
        </p:spPr>
      </p:pic>
      <p:sp>
        <p:nvSpPr>
          <p:cNvPr id="2682" name="Text Box 3"/>
          <p:cNvSpPr/>
          <p:nvPr/>
        </p:nvSpPr>
        <p:spPr>
          <a:xfrm>
            <a:off x="684360" y="436572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一个数除以分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3" name="对象 10265" descr=""/>
          <p:cNvPicPr/>
          <p:nvPr/>
        </p:nvPicPr>
        <p:blipFill>
          <a:blip r:embed="rId4"/>
          <a:stretch/>
        </p:blipFill>
        <p:spPr>
          <a:xfrm>
            <a:off x="1258920" y="5013360"/>
            <a:ext cx="1297080" cy="957240"/>
          </a:xfrm>
          <a:prstGeom prst="rect">
            <a:avLst/>
          </a:prstGeom>
          <a:ln w="0">
            <a:noFill/>
          </a:ln>
        </p:spPr>
      </p:pic>
      <p:pic>
        <p:nvPicPr>
          <p:cNvPr id="2684" name="对象 10266" descr=""/>
          <p:cNvPicPr/>
          <p:nvPr/>
        </p:nvPicPr>
        <p:blipFill>
          <a:blip r:embed="rId5"/>
          <a:stretch/>
        </p:blipFill>
        <p:spPr>
          <a:xfrm>
            <a:off x="2629080" y="5013360"/>
            <a:ext cx="1266480" cy="957240"/>
          </a:xfrm>
          <a:prstGeom prst="rect">
            <a:avLst/>
          </a:prstGeom>
          <a:ln w="0">
            <a:noFill/>
          </a:ln>
        </p:spPr>
      </p:pic>
      <p:sp>
        <p:nvSpPr>
          <p:cNvPr id="2685" name="Line 9"/>
          <p:cNvSpPr/>
          <p:nvPr/>
        </p:nvSpPr>
        <p:spPr>
          <a:xfrm>
            <a:off x="2627280" y="5300640"/>
            <a:ext cx="360360" cy="2890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Text Box 10"/>
          <p:cNvSpPr/>
          <p:nvPr/>
        </p:nvSpPr>
        <p:spPr>
          <a:xfrm>
            <a:off x="2698920" y="5013360"/>
            <a:ext cx="5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Line 11"/>
          <p:cNvSpPr/>
          <p:nvPr/>
        </p:nvSpPr>
        <p:spPr>
          <a:xfrm>
            <a:off x="3203640" y="5661000"/>
            <a:ext cx="360360" cy="2890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Text Box 12"/>
          <p:cNvSpPr/>
          <p:nvPr/>
        </p:nvSpPr>
        <p:spPr>
          <a:xfrm>
            <a:off x="3276720" y="580536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9" name="对象 10271" descr=""/>
          <p:cNvPicPr/>
          <p:nvPr/>
        </p:nvPicPr>
        <p:blipFill>
          <a:blip r:embed="rId6"/>
          <a:stretch/>
        </p:blipFill>
        <p:spPr>
          <a:xfrm>
            <a:off x="3924360" y="5300640"/>
            <a:ext cx="493560" cy="432000"/>
          </a:xfrm>
          <a:prstGeom prst="rect">
            <a:avLst/>
          </a:prstGeom>
          <a:ln w="0">
            <a:noFill/>
          </a:ln>
        </p:spPr>
      </p:pic>
      <p:pic>
        <p:nvPicPr>
          <p:cNvPr id="2690" name="对象 10272" descr=""/>
          <p:cNvPicPr/>
          <p:nvPr/>
        </p:nvPicPr>
        <p:blipFill>
          <a:blip r:embed="rId7"/>
          <a:stretch/>
        </p:blipFill>
        <p:spPr>
          <a:xfrm>
            <a:off x="5003640" y="5084640"/>
            <a:ext cx="1225800" cy="865440"/>
          </a:xfrm>
          <a:prstGeom prst="rect">
            <a:avLst/>
          </a:prstGeom>
          <a:ln w="0">
            <a:noFill/>
          </a:ln>
        </p:spPr>
      </p:pic>
      <p:pic>
        <p:nvPicPr>
          <p:cNvPr id="2691" name="对象 10273" descr=""/>
          <p:cNvPicPr/>
          <p:nvPr/>
        </p:nvPicPr>
        <p:blipFill>
          <a:blip r:embed="rId8"/>
          <a:stretch/>
        </p:blipFill>
        <p:spPr>
          <a:xfrm>
            <a:off x="6299280" y="5084640"/>
            <a:ext cx="1197000" cy="865440"/>
          </a:xfrm>
          <a:prstGeom prst="rect">
            <a:avLst/>
          </a:prstGeom>
          <a:ln w="0">
            <a:noFill/>
          </a:ln>
        </p:spPr>
      </p:pic>
      <p:sp>
        <p:nvSpPr>
          <p:cNvPr id="2692" name="Line 16"/>
          <p:cNvSpPr/>
          <p:nvPr/>
        </p:nvSpPr>
        <p:spPr>
          <a:xfrm>
            <a:off x="6299280" y="5157720"/>
            <a:ext cx="360360" cy="2872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Text Box 17"/>
          <p:cNvSpPr/>
          <p:nvPr/>
        </p:nvSpPr>
        <p:spPr>
          <a:xfrm>
            <a:off x="6442200" y="4727520"/>
            <a:ext cx="5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Line 18"/>
          <p:cNvSpPr/>
          <p:nvPr/>
        </p:nvSpPr>
        <p:spPr>
          <a:xfrm>
            <a:off x="6802560" y="5589720"/>
            <a:ext cx="360360" cy="2872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Text Box 19"/>
          <p:cNvSpPr/>
          <p:nvPr/>
        </p:nvSpPr>
        <p:spPr>
          <a:xfrm>
            <a:off x="7018200" y="580536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6" name="对象 10278" descr=""/>
          <p:cNvPicPr/>
          <p:nvPr/>
        </p:nvPicPr>
        <p:blipFill>
          <a:blip r:embed="rId9"/>
          <a:stretch/>
        </p:blipFill>
        <p:spPr>
          <a:xfrm>
            <a:off x="7523280" y="5013360"/>
            <a:ext cx="493560" cy="960480"/>
          </a:xfrm>
          <a:prstGeom prst="rect">
            <a:avLst/>
          </a:prstGeom>
          <a:ln w="0">
            <a:noFill/>
          </a:ln>
        </p:spPr>
      </p:pic>
      <p:sp>
        <p:nvSpPr>
          <p:cNvPr id="2697" name="五边形 4"/>
          <p:cNvSpPr/>
          <p:nvPr/>
        </p:nvSpPr>
        <p:spPr>
          <a:xfrm>
            <a:off x="6500880" y="353880"/>
            <a:ext cx="1882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76320" bIns="7632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探究新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8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699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700" name="五边形 4" descr=""/>
              <p:cNvPicPr/>
              <p:nvPr/>
            </p:nvPicPr>
            <p:blipFill>
              <a:blip r:embed="rId10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1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2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0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7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500"/>
                            </p:stCondLst>
                            <p:childTnLst>
                              <p:par>
                                <p:cTn id="740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3000"/>
                            </p:stCondLst>
                            <p:childTnLst>
                              <p:par>
                                <p:cTn id="747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26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26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6" dur="80"/>
                                        <p:tgtEl>
                                          <p:spTgt spid="26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3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704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6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717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718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9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0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练习巩固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1" name="Text Box 3"/>
          <p:cNvSpPr/>
          <p:nvPr/>
        </p:nvSpPr>
        <p:spPr>
          <a:xfrm>
            <a:off x="611280" y="112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练一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2" name="对象 11284" descr=""/>
          <p:cNvPicPr/>
          <p:nvPr/>
        </p:nvPicPr>
        <p:blipFill>
          <a:blip r:embed="rId2"/>
          <a:stretch/>
        </p:blipFill>
        <p:spPr>
          <a:xfrm>
            <a:off x="1258920" y="2135160"/>
            <a:ext cx="1224000" cy="903240"/>
          </a:xfrm>
          <a:prstGeom prst="rect">
            <a:avLst/>
          </a:prstGeom>
          <a:ln w="0">
            <a:noFill/>
          </a:ln>
        </p:spPr>
      </p:pic>
      <p:pic>
        <p:nvPicPr>
          <p:cNvPr id="2723" name="对象 11285" descr=""/>
          <p:cNvPicPr/>
          <p:nvPr/>
        </p:nvPicPr>
        <p:blipFill>
          <a:blip r:embed="rId3"/>
          <a:stretch/>
        </p:blipFill>
        <p:spPr>
          <a:xfrm>
            <a:off x="3538440" y="2130480"/>
            <a:ext cx="1136880" cy="903240"/>
          </a:xfrm>
          <a:prstGeom prst="rect">
            <a:avLst/>
          </a:prstGeom>
          <a:ln w="0">
            <a:noFill/>
          </a:ln>
        </p:spPr>
      </p:pic>
      <p:pic>
        <p:nvPicPr>
          <p:cNvPr id="2724" name="对象 11286" descr=""/>
          <p:cNvPicPr/>
          <p:nvPr/>
        </p:nvPicPr>
        <p:blipFill>
          <a:blip r:embed="rId4"/>
          <a:stretch/>
        </p:blipFill>
        <p:spPr>
          <a:xfrm>
            <a:off x="5867280" y="2135160"/>
            <a:ext cx="1136880" cy="903240"/>
          </a:xfrm>
          <a:prstGeom prst="rect">
            <a:avLst/>
          </a:prstGeom>
          <a:ln w="0">
            <a:noFill/>
          </a:ln>
        </p:spPr>
      </p:pic>
      <p:pic>
        <p:nvPicPr>
          <p:cNvPr id="2725" name="对象 11287" descr=""/>
          <p:cNvPicPr/>
          <p:nvPr/>
        </p:nvPicPr>
        <p:blipFill>
          <a:blip r:embed="rId5"/>
          <a:stretch/>
        </p:blipFill>
        <p:spPr>
          <a:xfrm>
            <a:off x="1258920" y="3465360"/>
            <a:ext cx="1108080" cy="903600"/>
          </a:xfrm>
          <a:prstGeom prst="rect">
            <a:avLst/>
          </a:prstGeom>
          <a:ln w="0">
            <a:noFill/>
          </a:ln>
        </p:spPr>
      </p:pic>
      <p:pic>
        <p:nvPicPr>
          <p:cNvPr id="2726" name="对象 11288" descr=""/>
          <p:cNvPicPr/>
          <p:nvPr/>
        </p:nvPicPr>
        <p:blipFill>
          <a:blip r:embed="rId6"/>
          <a:stretch/>
        </p:blipFill>
        <p:spPr>
          <a:xfrm>
            <a:off x="3541680" y="3476520"/>
            <a:ext cx="1136520" cy="903240"/>
          </a:xfrm>
          <a:prstGeom prst="rect">
            <a:avLst/>
          </a:prstGeom>
          <a:ln w="0">
            <a:noFill/>
          </a:ln>
        </p:spPr>
      </p:pic>
      <p:pic>
        <p:nvPicPr>
          <p:cNvPr id="2727" name="对象 11289" descr=""/>
          <p:cNvPicPr/>
          <p:nvPr/>
        </p:nvPicPr>
        <p:blipFill>
          <a:blip r:embed="rId7"/>
          <a:stretch/>
        </p:blipFill>
        <p:spPr>
          <a:xfrm>
            <a:off x="5867280" y="3468600"/>
            <a:ext cx="1428840" cy="903240"/>
          </a:xfrm>
          <a:prstGeom prst="rect">
            <a:avLst/>
          </a:prstGeom>
          <a:ln w="0">
            <a:noFill/>
          </a:ln>
        </p:spPr>
      </p:pic>
      <p:pic>
        <p:nvPicPr>
          <p:cNvPr id="2728" name="对象 11290" descr=""/>
          <p:cNvPicPr/>
          <p:nvPr/>
        </p:nvPicPr>
        <p:blipFill>
          <a:blip r:embed="rId8"/>
          <a:stretch/>
        </p:blipFill>
        <p:spPr>
          <a:xfrm>
            <a:off x="1225440" y="4916520"/>
            <a:ext cx="1252800" cy="904680"/>
          </a:xfrm>
          <a:prstGeom prst="rect">
            <a:avLst/>
          </a:prstGeom>
          <a:ln w="0">
            <a:noFill/>
          </a:ln>
        </p:spPr>
      </p:pic>
      <p:pic>
        <p:nvPicPr>
          <p:cNvPr id="2729" name="对象 11291" descr=""/>
          <p:cNvPicPr/>
          <p:nvPr/>
        </p:nvPicPr>
        <p:blipFill>
          <a:blip r:embed="rId9"/>
          <a:stretch/>
        </p:blipFill>
        <p:spPr>
          <a:xfrm>
            <a:off x="3562200" y="4910040"/>
            <a:ext cx="1282680" cy="903240"/>
          </a:xfrm>
          <a:prstGeom prst="rect">
            <a:avLst/>
          </a:prstGeom>
          <a:ln w="0">
            <a:noFill/>
          </a:ln>
        </p:spPr>
      </p:pic>
      <p:pic>
        <p:nvPicPr>
          <p:cNvPr id="2730" name="对象 11292" descr=""/>
          <p:cNvPicPr/>
          <p:nvPr/>
        </p:nvPicPr>
        <p:blipFill>
          <a:blip r:embed="rId10">
            <a:alphaModFix amt="60000"/>
          </a:blip>
          <a:stretch/>
        </p:blipFill>
        <p:spPr>
          <a:xfrm>
            <a:off x="2411280" y="2421000"/>
            <a:ext cx="406440" cy="407880"/>
          </a:xfrm>
          <a:prstGeom prst="rect">
            <a:avLst/>
          </a:prstGeom>
          <a:ln w="0">
            <a:noFill/>
          </a:ln>
        </p:spPr>
      </p:pic>
      <p:pic>
        <p:nvPicPr>
          <p:cNvPr id="2731" name="对象 11293" descr=""/>
          <p:cNvPicPr/>
          <p:nvPr/>
        </p:nvPicPr>
        <p:blipFill>
          <a:blip r:embed="rId11">
            <a:alphaModFix amt="80000"/>
          </a:blip>
          <a:stretch/>
        </p:blipFill>
        <p:spPr>
          <a:xfrm>
            <a:off x="4643280" y="2133720"/>
            <a:ext cx="468360" cy="904680"/>
          </a:xfrm>
          <a:prstGeom prst="rect">
            <a:avLst/>
          </a:prstGeom>
          <a:ln w="0">
            <a:noFill/>
          </a:ln>
        </p:spPr>
      </p:pic>
      <p:pic>
        <p:nvPicPr>
          <p:cNvPr id="2732" name="对象 11294" descr=""/>
          <p:cNvPicPr/>
          <p:nvPr/>
        </p:nvPicPr>
        <p:blipFill>
          <a:blip r:embed="rId12">
            <a:alphaModFix amt="85000"/>
          </a:blip>
          <a:stretch/>
        </p:blipFill>
        <p:spPr>
          <a:xfrm>
            <a:off x="2484360" y="5157720"/>
            <a:ext cx="466920" cy="407880"/>
          </a:xfrm>
          <a:prstGeom prst="rect">
            <a:avLst/>
          </a:prstGeom>
          <a:ln w="0">
            <a:noFill/>
          </a:ln>
        </p:spPr>
      </p:pic>
      <p:pic>
        <p:nvPicPr>
          <p:cNvPr id="2733" name="对象 11295" descr=""/>
          <p:cNvPicPr/>
          <p:nvPr/>
        </p:nvPicPr>
        <p:blipFill>
          <a:blip r:embed="rId13">
            <a:alphaModFix amt="85000"/>
          </a:blip>
          <a:stretch/>
        </p:blipFill>
        <p:spPr>
          <a:xfrm>
            <a:off x="7020000" y="2349360"/>
            <a:ext cx="263520" cy="408240"/>
          </a:xfrm>
          <a:prstGeom prst="rect">
            <a:avLst/>
          </a:prstGeom>
          <a:ln w="0">
            <a:noFill/>
          </a:ln>
        </p:spPr>
      </p:pic>
      <p:pic>
        <p:nvPicPr>
          <p:cNvPr id="2734" name="对象 11296" descr=""/>
          <p:cNvPicPr/>
          <p:nvPr/>
        </p:nvPicPr>
        <p:blipFill>
          <a:blip r:embed="rId14"/>
          <a:stretch/>
        </p:blipFill>
        <p:spPr>
          <a:xfrm>
            <a:off x="2411280" y="3502080"/>
            <a:ext cx="351000" cy="904680"/>
          </a:xfrm>
          <a:prstGeom prst="rect">
            <a:avLst/>
          </a:prstGeom>
          <a:ln w="0">
            <a:noFill/>
          </a:ln>
        </p:spPr>
      </p:pic>
      <p:pic>
        <p:nvPicPr>
          <p:cNvPr id="2735" name="对象 11297" descr=""/>
          <p:cNvPicPr/>
          <p:nvPr/>
        </p:nvPicPr>
        <p:blipFill>
          <a:blip r:embed="rId15">
            <a:alphaModFix amt="60000"/>
          </a:blip>
          <a:stretch/>
        </p:blipFill>
        <p:spPr>
          <a:xfrm>
            <a:off x="4643280" y="3502080"/>
            <a:ext cx="468360" cy="904680"/>
          </a:xfrm>
          <a:prstGeom prst="rect">
            <a:avLst/>
          </a:prstGeom>
          <a:ln w="0">
            <a:noFill/>
          </a:ln>
        </p:spPr>
      </p:pic>
      <p:pic>
        <p:nvPicPr>
          <p:cNvPr id="2736" name="对象 11298" descr=""/>
          <p:cNvPicPr/>
          <p:nvPr/>
        </p:nvPicPr>
        <p:blipFill>
          <a:blip r:embed="rId16">
            <a:alphaModFix amt="80000"/>
          </a:blip>
          <a:stretch/>
        </p:blipFill>
        <p:spPr>
          <a:xfrm>
            <a:off x="7236000" y="3502080"/>
            <a:ext cx="350640" cy="904680"/>
          </a:xfrm>
          <a:prstGeom prst="rect">
            <a:avLst/>
          </a:prstGeom>
          <a:ln w="0">
            <a:noFill/>
          </a:ln>
        </p:spPr>
      </p:pic>
      <p:pic>
        <p:nvPicPr>
          <p:cNvPr id="2737" name="对象 11299" descr=""/>
          <p:cNvPicPr/>
          <p:nvPr/>
        </p:nvPicPr>
        <p:blipFill>
          <a:blip r:embed="rId17"/>
          <a:stretch/>
        </p:blipFill>
        <p:spPr>
          <a:xfrm>
            <a:off x="4859280" y="4941720"/>
            <a:ext cx="35100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2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2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2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2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739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1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752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753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4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5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练习巩固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6" name="Text Box 3"/>
          <p:cNvSpPr/>
          <p:nvPr/>
        </p:nvSpPr>
        <p:spPr>
          <a:xfrm>
            <a:off x="539640" y="2060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下面各题怎样简便就怎样算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Rectangle 2"/>
          <p:cNvSpPr/>
          <p:nvPr/>
        </p:nvSpPr>
        <p:spPr>
          <a:xfrm>
            <a:off x="684360" y="1413000"/>
            <a:ext cx="496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分数四则运算和简便计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8" name="对象 12309" descr=""/>
          <p:cNvPicPr/>
          <p:nvPr/>
        </p:nvPicPr>
        <p:blipFill>
          <a:blip r:embed="rId2"/>
          <a:stretch/>
        </p:blipFill>
        <p:spPr>
          <a:xfrm>
            <a:off x="755640" y="3789360"/>
            <a:ext cx="2708280" cy="2087640"/>
          </a:xfrm>
          <a:prstGeom prst="rect">
            <a:avLst/>
          </a:prstGeom>
          <a:ln w="0">
            <a:noFill/>
          </a:ln>
        </p:spPr>
      </p:pic>
      <p:pic>
        <p:nvPicPr>
          <p:cNvPr id="2759" name="对象 12310" descr=""/>
          <p:cNvPicPr/>
          <p:nvPr/>
        </p:nvPicPr>
        <p:blipFill>
          <a:blip r:embed="rId3"/>
          <a:stretch/>
        </p:blipFill>
        <p:spPr>
          <a:xfrm>
            <a:off x="4716360" y="2637000"/>
            <a:ext cx="2849760" cy="1099800"/>
          </a:xfrm>
          <a:prstGeom prst="rect">
            <a:avLst/>
          </a:prstGeom>
          <a:ln w="0">
            <a:noFill/>
          </a:ln>
        </p:spPr>
      </p:pic>
      <p:pic>
        <p:nvPicPr>
          <p:cNvPr id="2760" name="对象 12311" descr=""/>
          <p:cNvPicPr/>
          <p:nvPr/>
        </p:nvPicPr>
        <p:blipFill>
          <a:blip r:embed="rId4"/>
          <a:stretch/>
        </p:blipFill>
        <p:spPr>
          <a:xfrm>
            <a:off x="4427640" y="3733920"/>
            <a:ext cx="3132000" cy="2114280"/>
          </a:xfrm>
          <a:prstGeom prst="rect">
            <a:avLst/>
          </a:prstGeom>
          <a:ln w="0">
            <a:noFill/>
          </a:ln>
        </p:spPr>
      </p:pic>
      <p:pic>
        <p:nvPicPr>
          <p:cNvPr id="2761" name="对象 12312" descr=""/>
          <p:cNvPicPr/>
          <p:nvPr/>
        </p:nvPicPr>
        <p:blipFill>
          <a:blip r:embed="rId5"/>
          <a:stretch/>
        </p:blipFill>
        <p:spPr>
          <a:xfrm>
            <a:off x="1066680" y="2608200"/>
            <a:ext cx="2370240" cy="10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1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6" dur="500"/>
                                        <p:tgtEl>
                                          <p:spTgt spid="2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2:01:45Z</dcterms:created>
  <dc:creator/>
  <dc:description/>
  <dc:language>en-US</dc:language>
  <cp:lastModifiedBy>万润仪器贸易公司</cp:lastModifiedBy>
  <dcterms:modified xsi:type="dcterms:W3CDTF">2020-08-21T09:43:22Z</dcterms:modified>
  <cp:revision>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